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F30DE542-B9CD-4199-8FC5-E75493209B32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48A3BABC-0984-479D-BB56-A97C005D77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746680"/>
            <a:ext cx="4572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 2</a:t>
            </a:r>
            <a:r>
              <a:rPr b="1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Strictly Confidential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720880"/>
            <a:ext cx="88203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 65/75 Relaun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Product Fit improvement mea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ibution, Volume, 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E. Remerie, W. Klebsch, U. Syd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3720" y="22536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y Statu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4-11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6600" y="1190520"/>
          <a:ext cx="8702640" cy="5313600"/>
        </p:xfrm>
        <a:graphic>
          <a:graphicData uri="http://schemas.openxmlformats.org/drawingml/2006/table">
            <a:tbl>
              <a:tblPr/>
              <a:tblGrid>
                <a:gridCol w="1131840"/>
                <a:gridCol w="2244600"/>
                <a:gridCol w="1668600"/>
                <a:gridCol w="2352600"/>
                <a:gridCol w="130500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ies / Operato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take 3k in December, possibly 2k in Janua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t setup is not fi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must create vari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wanss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w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discussing with operat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 samples CW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eedback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.K. C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ordered 1k, no information if further quantities are to ex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customer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feedback regarding volumes expected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Wolfgang Beuschlei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Arial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önnerhed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tel, Slov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ed 5k order due to timeline, new try in January 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Petra Ullman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Palandök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cell, Tur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sent, No feedback available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elda Yar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gmar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reported interest, will receive new samples in Novemb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receive new samples in CW 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, potential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Jac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y Status II</a:t>
            </a: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4-11-2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51000" y="1398600"/>
          <a:ext cx="8356320" cy="4281480"/>
        </p:xfrm>
        <a:graphic>
          <a:graphicData uri="http://schemas.openxmlformats.org/drawingml/2006/table">
            <a:tbl>
              <a:tblPr/>
              <a:tblGrid>
                <a:gridCol w="1122120"/>
                <a:gridCol w="2187720"/>
                <a:gridCol w="1971720"/>
                <a:gridCol w="1912680"/>
                <a:gridCol w="1162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ies / Operato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, Isra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sent, No feedback available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Lior ben A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gmar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 / Lett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Dietmar Ler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sell Emoty online shop newsletter in 12/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o sell Emoty online pend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Thibaud Nol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interest before this fall, no news in the last month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if interest exi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contac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Palandök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1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31280" y="353880"/>
            <a:ext cx="72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G65 – Push and Talk (PaT)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9000" y="1303200"/>
          <a:ext cx="8623080" cy="5151600"/>
        </p:xfrm>
        <a:graphic>
          <a:graphicData uri="http://schemas.openxmlformats.org/drawingml/2006/table">
            <a:tbl>
              <a:tblPr/>
              <a:tblGrid>
                <a:gridCol w="1218960"/>
                <a:gridCol w="928800"/>
                <a:gridCol w="914400"/>
                <a:gridCol w="885960"/>
                <a:gridCol w="914400"/>
                <a:gridCol w="942840"/>
                <a:gridCol w="987480"/>
                <a:gridCol w="985680"/>
                <a:gridCol w="84456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/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/ W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/ W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 Isr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5/37 in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ting for detailed feed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3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Q: N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7 in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Waiting for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G08 not yet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et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mprove availability of LG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avarro (10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schmo-neit (10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Pe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5 to be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test devices nece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s to be hand-carried to Peru: clarify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2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 mov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will start earliest in Jan 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ing issues uncl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situation with local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3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cel Me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depending on CX70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CX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70: waiting for results from Motorola PoC I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lear timeline for IOT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in touch with Mexico and clarify tim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6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424160" y="1305000"/>
            <a:ext cx="34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70/CT70/C71/CT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90960" y="13302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X70/CXT70/CX71/CXT71/M65/SK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71400" y="2936880"/>
            <a:ext cx="539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ure 7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justments for SG2 Platform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en75: Minos, Virgo, Taurus, Hydr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6920" y="1371600"/>
          <a:ext cx="872316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371600"/>
                    <a:ext cx="872316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93800" y="150804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dependency on external delive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2600" y="2546280"/>
            <a:ext cx="575784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180000" bIns="180000" anchor="ctr">
            <a:noAutofit/>
          </a:bodyPr>
          <a:p>
            <a:pPr marL="457200" indent="-457200">
              <a:lnSpc>
                <a:spcPts val="1599"/>
              </a:lnSpc>
              <a:spcBef>
                <a:spcPts val="1599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OpenWave 7.2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Early stabilization of Vodafone specs (esp. for LiveCa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Packet Video Player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ATI chipset and 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Comneon deliveries for BT and P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5480" y="2546280"/>
            <a:ext cx="1170000" cy="251928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519280"/>
              <a:gd name="textAreaBottom" fmla="*/ 2519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noAutofit/>
          </a:bodyPr>
          <a:p>
            <a:pPr marL="457200" indent="-457200">
              <a:lnSpc>
                <a:spcPts val="1599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5d"/>
                </a:solidFill>
                <a:latin typeface="Arial"/>
              </a:rPr>
              <a:t>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5d"/>
                </a:solidFill>
                <a:latin typeface="Arial"/>
              </a:rPr>
              <a:t>depend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680" y="322200"/>
            <a:ext cx="69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75: SG2 Software Platform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980400" y="5734080"/>
            <a:ext cx="21636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-63360"/>
            <a:ext cx="73501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G2 Release1 SWC components and Platform milest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310520" y="1341360"/>
            <a:ext cx="0" cy="5218920"/>
            <a:chOff x="7310520" y="1341360"/>
            <a:chExt cx="0" cy="5218920"/>
          </a:xfrm>
        </p:grpSpPr>
        <p:sp>
          <p:nvSpPr>
            <p:cNvPr id="142" name=""/>
            <p:cNvSpPr/>
            <p:nvPr/>
          </p:nvSpPr>
          <p:spPr>
            <a:xfrm>
              <a:off x="7310520" y="15976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10520" y="13413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46320" y="1855800"/>
            <a:ext cx="2001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240" y="3321000"/>
            <a:ext cx="2093760" cy="14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IDC: C3 = 29.04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09000" y="1852560"/>
            <a:ext cx="1983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240" y="4219560"/>
            <a:ext cx="209376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va: C3 = 20.05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31000" y="1662120"/>
            <a:ext cx="103032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M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9240" y="4659480"/>
            <a:ext cx="2093760" cy="18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WV Browser: C3 = 30.05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6800" y="3782880"/>
            <a:ext cx="199800" cy="21600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7160" y="1328760"/>
            <a:ext cx="0" cy="5218920"/>
            <a:chOff x="227160" y="1328760"/>
            <a:chExt cx="0" cy="5218920"/>
          </a:xfrm>
        </p:grpSpPr>
        <p:sp>
          <p:nvSpPr>
            <p:cNvPr id="152" name=""/>
            <p:cNvSpPr/>
            <p:nvPr/>
          </p:nvSpPr>
          <p:spPr>
            <a:xfrm>
              <a:off x="2271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71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8108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3440" y="1328760"/>
            <a:ext cx="0" cy="5218920"/>
            <a:chOff x="433440" y="1328760"/>
            <a:chExt cx="0" cy="5218920"/>
          </a:xfrm>
        </p:grpSpPr>
        <p:sp>
          <p:nvSpPr>
            <p:cNvPr id="156" name=""/>
            <p:cNvSpPr/>
            <p:nvPr/>
          </p:nvSpPr>
          <p:spPr>
            <a:xfrm>
              <a:off x="43344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344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42960" y="1328760"/>
            <a:ext cx="0" cy="5218920"/>
            <a:chOff x="642960" y="1328760"/>
            <a:chExt cx="0" cy="5218920"/>
          </a:xfrm>
        </p:grpSpPr>
        <p:sp>
          <p:nvSpPr>
            <p:cNvPr id="159" name=""/>
            <p:cNvSpPr/>
            <p:nvPr/>
          </p:nvSpPr>
          <p:spPr>
            <a:xfrm>
              <a:off x="642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51040" y="1328760"/>
            <a:ext cx="0" cy="5218920"/>
            <a:chOff x="851040" y="1328760"/>
            <a:chExt cx="0" cy="5218920"/>
          </a:xfrm>
        </p:grpSpPr>
        <p:sp>
          <p:nvSpPr>
            <p:cNvPr id="162" name=""/>
            <p:cNvSpPr/>
            <p:nvPr/>
          </p:nvSpPr>
          <p:spPr>
            <a:xfrm>
              <a:off x="85104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104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60560" y="1328760"/>
            <a:ext cx="0" cy="5218920"/>
            <a:chOff x="1060560" y="1328760"/>
            <a:chExt cx="0" cy="5218920"/>
          </a:xfrm>
        </p:grpSpPr>
        <p:sp>
          <p:nvSpPr>
            <p:cNvPr id="165" name=""/>
            <p:cNvSpPr/>
            <p:nvPr/>
          </p:nvSpPr>
          <p:spPr>
            <a:xfrm>
              <a:off x="10605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605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268280" y="1328760"/>
            <a:ext cx="0" cy="5218920"/>
            <a:chOff x="1268280" y="1328760"/>
            <a:chExt cx="0" cy="5218920"/>
          </a:xfrm>
        </p:grpSpPr>
        <p:sp>
          <p:nvSpPr>
            <p:cNvPr id="168" name=""/>
            <p:cNvSpPr/>
            <p:nvPr/>
          </p:nvSpPr>
          <p:spPr>
            <a:xfrm>
              <a:off x="1268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68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476360" y="1328760"/>
            <a:ext cx="0" cy="5218920"/>
            <a:chOff x="1476360" y="1328760"/>
            <a:chExt cx="0" cy="5218920"/>
          </a:xfrm>
        </p:grpSpPr>
        <p:sp>
          <p:nvSpPr>
            <p:cNvPr id="171" name=""/>
            <p:cNvSpPr/>
            <p:nvPr/>
          </p:nvSpPr>
          <p:spPr>
            <a:xfrm>
              <a:off x="1476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6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685880" y="1328760"/>
            <a:ext cx="0" cy="5218920"/>
            <a:chOff x="1685880" y="1328760"/>
            <a:chExt cx="0" cy="5218920"/>
          </a:xfrm>
        </p:grpSpPr>
        <p:sp>
          <p:nvSpPr>
            <p:cNvPr id="174" name=""/>
            <p:cNvSpPr/>
            <p:nvPr/>
          </p:nvSpPr>
          <p:spPr>
            <a:xfrm>
              <a:off x="1685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85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893960" y="1328760"/>
            <a:ext cx="0" cy="5218920"/>
            <a:chOff x="1893960" y="1328760"/>
            <a:chExt cx="0" cy="5218920"/>
          </a:xfrm>
        </p:grpSpPr>
        <p:sp>
          <p:nvSpPr>
            <p:cNvPr id="177" name=""/>
            <p:cNvSpPr/>
            <p:nvPr/>
          </p:nvSpPr>
          <p:spPr>
            <a:xfrm>
              <a:off x="1893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93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103480" y="1328760"/>
            <a:ext cx="0" cy="5218920"/>
            <a:chOff x="2103480" y="1328760"/>
            <a:chExt cx="0" cy="5218920"/>
          </a:xfrm>
        </p:grpSpPr>
        <p:sp>
          <p:nvSpPr>
            <p:cNvPr id="180" name=""/>
            <p:cNvSpPr/>
            <p:nvPr/>
          </p:nvSpPr>
          <p:spPr>
            <a:xfrm>
              <a:off x="21034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034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11560" y="1328760"/>
            <a:ext cx="0" cy="5218920"/>
            <a:chOff x="2311560" y="1328760"/>
            <a:chExt cx="0" cy="5218920"/>
          </a:xfrm>
        </p:grpSpPr>
        <p:sp>
          <p:nvSpPr>
            <p:cNvPr id="183" name=""/>
            <p:cNvSpPr/>
            <p:nvPr/>
          </p:nvSpPr>
          <p:spPr>
            <a:xfrm>
              <a:off x="23115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115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519280" y="1328760"/>
            <a:ext cx="0" cy="5218920"/>
            <a:chOff x="2519280" y="1328760"/>
            <a:chExt cx="0" cy="5218920"/>
          </a:xfrm>
        </p:grpSpPr>
        <p:sp>
          <p:nvSpPr>
            <p:cNvPr id="186" name=""/>
            <p:cNvSpPr/>
            <p:nvPr/>
          </p:nvSpPr>
          <p:spPr>
            <a:xfrm>
              <a:off x="2519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9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727360" y="1328760"/>
            <a:ext cx="0" cy="5218920"/>
            <a:chOff x="2727360" y="1328760"/>
            <a:chExt cx="0" cy="5218920"/>
          </a:xfrm>
        </p:grpSpPr>
        <p:sp>
          <p:nvSpPr>
            <p:cNvPr id="189" name=""/>
            <p:cNvSpPr/>
            <p:nvPr/>
          </p:nvSpPr>
          <p:spPr>
            <a:xfrm>
              <a:off x="2727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27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936880" y="1328760"/>
            <a:ext cx="0" cy="5218920"/>
            <a:chOff x="2936880" y="1328760"/>
            <a:chExt cx="0" cy="5218920"/>
          </a:xfrm>
        </p:grpSpPr>
        <p:sp>
          <p:nvSpPr>
            <p:cNvPr id="192" name=""/>
            <p:cNvSpPr/>
            <p:nvPr/>
          </p:nvSpPr>
          <p:spPr>
            <a:xfrm>
              <a:off x="2936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36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44960" y="1328760"/>
            <a:ext cx="0" cy="5218920"/>
            <a:chOff x="3144960" y="1328760"/>
            <a:chExt cx="0" cy="5218920"/>
          </a:xfrm>
        </p:grpSpPr>
        <p:sp>
          <p:nvSpPr>
            <p:cNvPr id="195" name=""/>
            <p:cNvSpPr/>
            <p:nvPr/>
          </p:nvSpPr>
          <p:spPr>
            <a:xfrm>
              <a:off x="3144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44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352680" y="1328760"/>
            <a:ext cx="0" cy="5218920"/>
            <a:chOff x="3352680" y="1328760"/>
            <a:chExt cx="0" cy="5218920"/>
          </a:xfrm>
        </p:grpSpPr>
        <p:sp>
          <p:nvSpPr>
            <p:cNvPr id="198" name=""/>
            <p:cNvSpPr/>
            <p:nvPr/>
          </p:nvSpPr>
          <p:spPr>
            <a:xfrm>
              <a:off x="33526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526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562200" y="1328760"/>
            <a:ext cx="0" cy="5218920"/>
            <a:chOff x="3562200" y="1328760"/>
            <a:chExt cx="0" cy="5218920"/>
          </a:xfrm>
        </p:grpSpPr>
        <p:sp>
          <p:nvSpPr>
            <p:cNvPr id="201" name=""/>
            <p:cNvSpPr/>
            <p:nvPr/>
          </p:nvSpPr>
          <p:spPr>
            <a:xfrm>
              <a:off x="35622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622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060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832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820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1592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24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33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416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49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88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66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5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84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2600" y="1328760"/>
            <a:ext cx="29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00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098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17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72080" y="1330200"/>
            <a:ext cx="0" cy="5219280"/>
            <a:chOff x="3772080" y="1330200"/>
            <a:chExt cx="0" cy="5219280"/>
          </a:xfrm>
        </p:grpSpPr>
        <p:sp>
          <p:nvSpPr>
            <p:cNvPr id="220" name=""/>
            <p:cNvSpPr/>
            <p:nvPr/>
          </p:nvSpPr>
          <p:spPr>
            <a:xfrm>
              <a:off x="37720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20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79800" y="1330200"/>
            <a:ext cx="0" cy="5219280"/>
            <a:chOff x="3979800" y="1330200"/>
            <a:chExt cx="0" cy="5219280"/>
          </a:xfrm>
        </p:grpSpPr>
        <p:sp>
          <p:nvSpPr>
            <p:cNvPr id="223" name=""/>
            <p:cNvSpPr/>
            <p:nvPr/>
          </p:nvSpPr>
          <p:spPr>
            <a:xfrm>
              <a:off x="39798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798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187880" y="1330200"/>
            <a:ext cx="0" cy="5219280"/>
            <a:chOff x="4187880" y="1330200"/>
            <a:chExt cx="0" cy="5219280"/>
          </a:xfrm>
        </p:grpSpPr>
        <p:sp>
          <p:nvSpPr>
            <p:cNvPr id="226" name=""/>
            <p:cNvSpPr/>
            <p:nvPr/>
          </p:nvSpPr>
          <p:spPr>
            <a:xfrm>
              <a:off x="41878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878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397400" y="1330200"/>
            <a:ext cx="0" cy="5219280"/>
            <a:chOff x="4397400" y="1330200"/>
            <a:chExt cx="0" cy="5219280"/>
          </a:xfrm>
        </p:grpSpPr>
        <p:sp>
          <p:nvSpPr>
            <p:cNvPr id="229" name=""/>
            <p:cNvSpPr/>
            <p:nvPr/>
          </p:nvSpPr>
          <p:spPr>
            <a:xfrm>
              <a:off x="43974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974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605480" y="1330200"/>
            <a:ext cx="0" cy="5219280"/>
            <a:chOff x="4605480" y="1330200"/>
            <a:chExt cx="0" cy="5219280"/>
          </a:xfrm>
        </p:grpSpPr>
        <p:sp>
          <p:nvSpPr>
            <p:cNvPr id="232" name=""/>
            <p:cNvSpPr/>
            <p:nvPr/>
          </p:nvSpPr>
          <p:spPr>
            <a:xfrm>
              <a:off x="46054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054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72744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3552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504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27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599000" y="1328760"/>
            <a:ext cx="0" cy="5218920"/>
            <a:chOff x="4599000" y="1328760"/>
            <a:chExt cx="0" cy="5218920"/>
          </a:xfrm>
        </p:grpSpPr>
        <p:sp>
          <p:nvSpPr>
            <p:cNvPr id="239" name=""/>
            <p:cNvSpPr/>
            <p:nvPr/>
          </p:nvSpPr>
          <p:spPr>
            <a:xfrm>
              <a:off x="45990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990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55148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05280" y="1328760"/>
            <a:ext cx="0" cy="5218920"/>
            <a:chOff x="4805280" y="1328760"/>
            <a:chExt cx="0" cy="5218920"/>
          </a:xfrm>
        </p:grpSpPr>
        <p:sp>
          <p:nvSpPr>
            <p:cNvPr id="243" name=""/>
            <p:cNvSpPr/>
            <p:nvPr/>
          </p:nvSpPr>
          <p:spPr>
            <a:xfrm>
              <a:off x="4805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5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014800" y="1328760"/>
            <a:ext cx="0" cy="5218920"/>
            <a:chOff x="5014800" y="1328760"/>
            <a:chExt cx="0" cy="5218920"/>
          </a:xfrm>
        </p:grpSpPr>
        <p:sp>
          <p:nvSpPr>
            <p:cNvPr id="246" name=""/>
            <p:cNvSpPr/>
            <p:nvPr/>
          </p:nvSpPr>
          <p:spPr>
            <a:xfrm>
              <a:off x="50148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148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222880" y="1328760"/>
            <a:ext cx="0" cy="5218920"/>
            <a:chOff x="5222880" y="1328760"/>
            <a:chExt cx="0" cy="5218920"/>
          </a:xfrm>
        </p:grpSpPr>
        <p:sp>
          <p:nvSpPr>
            <p:cNvPr id="249" name=""/>
            <p:cNvSpPr/>
            <p:nvPr/>
          </p:nvSpPr>
          <p:spPr>
            <a:xfrm>
              <a:off x="5222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2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432400" y="1328760"/>
            <a:ext cx="0" cy="5218920"/>
            <a:chOff x="5432400" y="1328760"/>
            <a:chExt cx="0" cy="5218920"/>
          </a:xfrm>
        </p:grpSpPr>
        <p:sp>
          <p:nvSpPr>
            <p:cNvPr id="252" name=""/>
            <p:cNvSpPr/>
            <p:nvPr/>
          </p:nvSpPr>
          <p:spPr>
            <a:xfrm>
              <a:off x="54324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324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640480" y="1328760"/>
            <a:ext cx="0" cy="5218920"/>
            <a:chOff x="5640480" y="1328760"/>
            <a:chExt cx="0" cy="5218920"/>
          </a:xfrm>
        </p:grpSpPr>
        <p:sp>
          <p:nvSpPr>
            <p:cNvPr id="255" name=""/>
            <p:cNvSpPr/>
            <p:nvPr/>
          </p:nvSpPr>
          <p:spPr>
            <a:xfrm>
              <a:off x="56404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404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848200" y="1328760"/>
            <a:ext cx="0" cy="5218920"/>
            <a:chOff x="5848200" y="1328760"/>
            <a:chExt cx="0" cy="5218920"/>
          </a:xfrm>
        </p:grpSpPr>
        <p:sp>
          <p:nvSpPr>
            <p:cNvPr id="258" name=""/>
            <p:cNvSpPr/>
            <p:nvPr/>
          </p:nvSpPr>
          <p:spPr>
            <a:xfrm>
              <a:off x="58482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482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056280" y="1328760"/>
            <a:ext cx="0" cy="5218920"/>
            <a:chOff x="6056280" y="1328760"/>
            <a:chExt cx="0" cy="5218920"/>
          </a:xfrm>
        </p:grpSpPr>
        <p:sp>
          <p:nvSpPr>
            <p:cNvPr id="261" name=""/>
            <p:cNvSpPr/>
            <p:nvPr/>
          </p:nvSpPr>
          <p:spPr>
            <a:xfrm>
              <a:off x="6056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56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264360" y="1328760"/>
            <a:ext cx="0" cy="5218920"/>
            <a:chOff x="6264360" y="1328760"/>
            <a:chExt cx="0" cy="5218920"/>
          </a:xfrm>
        </p:grpSpPr>
        <p:sp>
          <p:nvSpPr>
            <p:cNvPr id="264" name=""/>
            <p:cNvSpPr/>
            <p:nvPr/>
          </p:nvSpPr>
          <p:spPr>
            <a:xfrm>
              <a:off x="6264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64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473880" y="1328760"/>
            <a:ext cx="0" cy="5218920"/>
            <a:chOff x="6473880" y="1328760"/>
            <a:chExt cx="0" cy="5218920"/>
          </a:xfrm>
        </p:grpSpPr>
        <p:sp>
          <p:nvSpPr>
            <p:cNvPr id="267" name=""/>
            <p:cNvSpPr/>
            <p:nvPr/>
          </p:nvSpPr>
          <p:spPr>
            <a:xfrm>
              <a:off x="6473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73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681960" y="1328760"/>
            <a:ext cx="0" cy="5218920"/>
            <a:chOff x="6681960" y="1328760"/>
            <a:chExt cx="0" cy="5218920"/>
          </a:xfrm>
        </p:grpSpPr>
        <p:sp>
          <p:nvSpPr>
            <p:cNvPr id="270" name=""/>
            <p:cNvSpPr/>
            <p:nvPr/>
          </p:nvSpPr>
          <p:spPr>
            <a:xfrm>
              <a:off x="6681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81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889680" y="1328760"/>
            <a:ext cx="0" cy="5218920"/>
            <a:chOff x="6889680" y="1328760"/>
            <a:chExt cx="0" cy="5218920"/>
          </a:xfrm>
        </p:grpSpPr>
        <p:sp>
          <p:nvSpPr>
            <p:cNvPr id="273" name=""/>
            <p:cNvSpPr/>
            <p:nvPr/>
          </p:nvSpPr>
          <p:spPr>
            <a:xfrm>
              <a:off x="68896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896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097760" y="1328760"/>
            <a:ext cx="0" cy="5218920"/>
            <a:chOff x="7097760" y="1328760"/>
            <a:chExt cx="0" cy="5218920"/>
          </a:xfrm>
        </p:grpSpPr>
        <p:sp>
          <p:nvSpPr>
            <p:cNvPr id="276" name=""/>
            <p:cNvSpPr/>
            <p:nvPr/>
          </p:nvSpPr>
          <p:spPr>
            <a:xfrm>
              <a:off x="70977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977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307280" y="1328760"/>
            <a:ext cx="0" cy="5218920"/>
            <a:chOff x="7307280" y="1328760"/>
            <a:chExt cx="0" cy="5218920"/>
          </a:xfrm>
        </p:grpSpPr>
        <p:sp>
          <p:nvSpPr>
            <p:cNvPr id="279" name=""/>
            <p:cNvSpPr/>
            <p:nvPr/>
          </p:nvSpPr>
          <p:spPr>
            <a:xfrm>
              <a:off x="7307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07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515360" y="1328760"/>
            <a:ext cx="0" cy="5218920"/>
            <a:chOff x="7515360" y="1328760"/>
            <a:chExt cx="0" cy="5218920"/>
          </a:xfrm>
        </p:grpSpPr>
        <p:sp>
          <p:nvSpPr>
            <p:cNvPr id="282" name=""/>
            <p:cNvSpPr/>
            <p:nvPr/>
          </p:nvSpPr>
          <p:spPr>
            <a:xfrm>
              <a:off x="7515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15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729560" y="1376280"/>
            <a:ext cx="0" cy="5218920"/>
            <a:chOff x="7729560" y="1376280"/>
            <a:chExt cx="0" cy="5218920"/>
          </a:xfrm>
        </p:grpSpPr>
        <p:sp>
          <p:nvSpPr>
            <p:cNvPr id="285" name=""/>
            <p:cNvSpPr/>
            <p:nvPr/>
          </p:nvSpPr>
          <p:spPr>
            <a:xfrm>
              <a:off x="7729560" y="163260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9560" y="137628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934400" y="1328760"/>
            <a:ext cx="0" cy="5218920"/>
            <a:chOff x="7934400" y="1328760"/>
            <a:chExt cx="0" cy="5218920"/>
          </a:xfrm>
        </p:grpSpPr>
        <p:sp>
          <p:nvSpPr>
            <p:cNvPr id="288" name=""/>
            <p:cNvSpPr/>
            <p:nvPr/>
          </p:nvSpPr>
          <p:spPr>
            <a:xfrm>
              <a:off x="79344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344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761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687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78600" y="1328760"/>
            <a:ext cx="29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86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44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03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197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292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3876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4684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5636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6444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72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820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8976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143920" y="1330200"/>
            <a:ext cx="0" cy="5219280"/>
            <a:chOff x="8143920" y="1330200"/>
            <a:chExt cx="0" cy="5219280"/>
          </a:xfrm>
        </p:grpSpPr>
        <p:sp>
          <p:nvSpPr>
            <p:cNvPr id="307" name=""/>
            <p:cNvSpPr/>
            <p:nvPr/>
          </p:nvSpPr>
          <p:spPr>
            <a:xfrm>
              <a:off x="81439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439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352000" y="1330200"/>
            <a:ext cx="0" cy="5219280"/>
            <a:chOff x="8352000" y="1330200"/>
            <a:chExt cx="0" cy="5219280"/>
          </a:xfrm>
        </p:grpSpPr>
        <p:sp>
          <p:nvSpPr>
            <p:cNvPr id="310" name=""/>
            <p:cNvSpPr/>
            <p:nvPr/>
          </p:nvSpPr>
          <p:spPr>
            <a:xfrm>
              <a:off x="83520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520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559720" y="1330200"/>
            <a:ext cx="0" cy="5219280"/>
            <a:chOff x="8559720" y="1330200"/>
            <a:chExt cx="0" cy="5219280"/>
          </a:xfrm>
        </p:grpSpPr>
        <p:sp>
          <p:nvSpPr>
            <p:cNvPr id="313" name=""/>
            <p:cNvSpPr/>
            <p:nvPr/>
          </p:nvSpPr>
          <p:spPr>
            <a:xfrm>
              <a:off x="85597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597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769240" y="1330200"/>
            <a:ext cx="0" cy="5219280"/>
            <a:chOff x="8769240" y="1330200"/>
            <a:chExt cx="0" cy="5219280"/>
          </a:xfrm>
        </p:grpSpPr>
        <p:sp>
          <p:nvSpPr>
            <p:cNvPr id="316" name=""/>
            <p:cNvSpPr/>
            <p:nvPr/>
          </p:nvSpPr>
          <p:spPr>
            <a:xfrm>
              <a:off x="876924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6924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977320" y="1330200"/>
            <a:ext cx="0" cy="5219280"/>
            <a:chOff x="8977320" y="1330200"/>
            <a:chExt cx="0" cy="5219280"/>
          </a:xfrm>
        </p:grpSpPr>
        <p:sp>
          <p:nvSpPr>
            <p:cNvPr id="319" name=""/>
            <p:cNvSpPr/>
            <p:nvPr/>
          </p:nvSpPr>
          <p:spPr>
            <a:xfrm>
              <a:off x="89773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9773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09928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73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1688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7249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29680" y="2298600"/>
            <a:ext cx="19980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29640" y="2133720"/>
            <a:ext cx="691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Taur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29440" y="2287440"/>
            <a:ext cx="19872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9480" y="2673360"/>
            <a:ext cx="2001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62880" y="2492280"/>
            <a:ext cx="63180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Vir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97760" y="2133720"/>
            <a:ext cx="798480" cy="13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Hyd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34200" y="1700280"/>
            <a:ext cx="6904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86560" y="1854360"/>
            <a:ext cx="200160" cy="21564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83080" y="1701720"/>
            <a:ext cx="6904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02320" y="1855800"/>
            <a:ext cx="19980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44720" y="1687680"/>
            <a:ext cx="6904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 target for al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76520" y="2492280"/>
            <a:ext cx="79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3142800" y="2133360"/>
            <a:ext cx="46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173480" y="2133720"/>
            <a:ext cx="5637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03880" y="2529000"/>
            <a:ext cx="798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772160" y="2133360"/>
            <a:ext cx="4651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134040" y="2168280"/>
            <a:ext cx="49860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44680" y="1881360"/>
            <a:ext cx="692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200" y="3537000"/>
            <a:ext cx="2071800" cy="179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CNCT: C3 = 22.04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9240" y="3824280"/>
            <a:ext cx="1893600" cy="14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S: C3 = 31.03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9240" y="5089680"/>
            <a:ext cx="209376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WV Messaging: C3 = 07.06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33560" y="3517920"/>
            <a:ext cx="200160" cy="21600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51000" y="3284640"/>
            <a:ext cx="198720" cy="21564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08400" y="3537000"/>
            <a:ext cx="692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 mile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66960" y="4219560"/>
            <a:ext cx="198720" cy="216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87800" y="4621320"/>
            <a:ext cx="200160" cy="215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02280" y="5056200"/>
            <a:ext cx="199800" cy="216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343320" y="432900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86280" y="4221000"/>
            <a:ext cx="692280" cy="2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 action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343320" y="472428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59520" y="4653000"/>
            <a:ext cx="6919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WV/Siemens 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3343320" y="5157360"/>
            <a:ext cx="8618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59520" y="5049720"/>
            <a:ext cx="6919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WV/Siemens 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29680" y="1844640"/>
            <a:ext cx="691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.09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12272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340000" y="249228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835280" y="206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05928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3280" y="249228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211640" y="213336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36400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3573360"/>
            <a:ext cx="324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3 Target date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9.04.0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25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4.06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3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6.08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Minos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.09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Hydra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2.09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Virgo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1.1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Taurus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.1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9280" y="404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879640" cy="4256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V="1">
            <a:off x="313200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916360" y="549360"/>
            <a:ext cx="21564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70036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835280" y="549360"/>
            <a:ext cx="215640" cy="287280"/>
          </a:xfrm>
          <a:prstGeom prst="line">
            <a:avLst/>
          </a:prstGeom>
          <a:ln w="57240">
            <a:solidFill>
              <a:srgbClr val="9e1d3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32000" y="2602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3 Target date 29.0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2602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te C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12272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340000" y="249228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35280" y="206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05928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249228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211640" y="213336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36400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9280" y="404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13200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916360" y="549360"/>
            <a:ext cx="21564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70036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835280" y="549360"/>
            <a:ext cx="215640" cy="287280"/>
          </a:xfrm>
          <a:prstGeom prst="line">
            <a:avLst/>
          </a:prstGeom>
          <a:ln w="57240">
            <a:solidFill>
              <a:srgbClr val="9e1d3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32000" y="2602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3 Target date 29.0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56000" y="2602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te C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2955960" cy="2125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6012000" y="2349360"/>
            <a:ext cx="2879640" cy="42562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2286000" cy="8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03040" y="7128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chedule SG2 Software (Primaver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9454400">
            <a:off x="2846160" y="4046400"/>
            <a:ext cx="35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tails: see paper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1280" y="1467000"/>
            <a:ext cx="673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S-GOLD2 platform products (Minos, Taurus, Virgo, Hydra)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are planned in Primavera (Vintage SW Platfo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71760" y="2936880"/>
            <a:ext cx="522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use 6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10640" y="2975040"/>
            <a:ext cx="35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oadmap V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267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veral options are possible to reduce resource over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28600" y="1109520"/>
          <a:ext cx="8318520" cy="5073840"/>
        </p:xfrm>
        <a:graphic>
          <a:graphicData uri="http://schemas.openxmlformats.org/drawingml/2006/table">
            <a:tbl>
              <a:tblPr/>
              <a:tblGrid>
                <a:gridCol w="1092240"/>
                <a:gridCol w="2349360"/>
                <a:gridCol w="1003320"/>
                <a:gridCol w="1015920"/>
                <a:gridCol w="978120"/>
                <a:gridCol w="977760"/>
                <a:gridCol w="901800"/>
              </a:tblGrid>
              <a:tr h="117036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full features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Theme Ph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 UMTS EDGE platfor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featureset of exisitng platforms (SG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UMTS smart ph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innovation and defocus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NG with all features and leverage existing platforms for consumer attractiveness and minimum operator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smartphone and UMTS as well as leveraging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UMTS story with Qualcomm, NG theme phone (without operator compliance), leverage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TS smartphone, NG theme phone (wo operator compliance), leverage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6010920" y="6267600"/>
            <a:ext cx="213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With optimised featu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20484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Options in order to close the resources ga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balance innovation – profit –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79280" y="1052640"/>
          <a:ext cx="8766360" cy="4578120"/>
        </p:xfrm>
        <a:graphic>
          <a:graphicData uri="http://schemas.openxmlformats.org/drawingml/2006/table">
            <a:tbl>
              <a:tblPr/>
              <a:tblGrid>
                <a:gridCol w="630360"/>
                <a:gridCol w="2305080"/>
                <a:gridCol w="1006560"/>
                <a:gridCol w="1079280"/>
                <a:gridCol w="1008000"/>
                <a:gridCol w="1297080"/>
                <a:gridCol w="1440000"/>
              </a:tblGrid>
              <a:tr h="547920">
                <a:tc rowSpan="8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+ In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+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+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theme phon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,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theme phon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,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 (Volum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Compli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rt phone UM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house Entry UMT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vene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mpli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 2007 and beyo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roo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e COM Synerg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TS mass market migr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si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1116000" y="5950080"/>
            <a:ext cx="73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23960" indent="-5446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enarios 5 gives us the best balance betwe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coverage, profitability potential and 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000" y="202680"/>
            <a:ext cx="875052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85G Hero roadmap scenario (Global Products: 16 GSM + 4 UMTS)  </a:t>
            </a:r>
            <a:br>
              <a:rPr sz="2000"/>
            </a:b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Siemens Sans"/>
              </a:rPr>
              <a:t>Target Roadmap for planning</a:t>
            </a: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 as of November 26th, 0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408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409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412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422280" y="1052640"/>
            <a:ext cx="8165880" cy="420480"/>
            <a:chOff x="422280" y="1052640"/>
            <a:chExt cx="8165880" cy="420480"/>
          </a:xfrm>
        </p:grpSpPr>
        <p:sp>
          <p:nvSpPr>
            <p:cNvPr id="421" name=""/>
            <p:cNvSpPr/>
            <p:nvPr/>
          </p:nvSpPr>
          <p:spPr>
            <a:xfrm>
              <a:off x="246708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5956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2280" y="10526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1780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18160" y="10731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009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13320" y="12715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2280" y="12715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648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705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3680" y="1492200"/>
            <a:ext cx="1984320" cy="133524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16040" y="156384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52600" y="1471680"/>
            <a:ext cx="1172880" cy="497880"/>
            <a:chOff x="552600" y="1471680"/>
            <a:chExt cx="1172880" cy="497880"/>
          </a:xfrm>
        </p:grpSpPr>
        <p:sp>
          <p:nvSpPr>
            <p:cNvPr id="447" name=""/>
            <p:cNvSpPr/>
            <p:nvPr/>
          </p:nvSpPr>
          <p:spPr>
            <a:xfrm>
              <a:off x="680040" y="147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720" y="164124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52600" y="1598400"/>
              <a:ext cx="109440" cy="371160"/>
              <a:chOff x="552600" y="1598400"/>
              <a:chExt cx="109440" cy="371160"/>
            </a:xfrm>
          </p:grpSpPr>
          <p:sp>
            <p:nvSpPr>
              <p:cNvPr id="450" name=""/>
              <p:cNvSpPr/>
              <p:nvPr/>
            </p:nvSpPr>
            <p:spPr>
              <a:xfrm>
                <a:off x="552600" y="1598400"/>
                <a:ext cx="109440" cy="37116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3086">
                    <a:moveTo>
                      <a:pt x="3600" y="0"/>
                    </a:moveTo>
                    <a:arcTo wR="3600" hR="3600" stAng="16200000" swAng="-5400000"/>
                    <a:lnTo>
                      <a:pt x="0" y="69486"/>
                    </a:lnTo>
                    <a:arcTo wR="3600" hR="3600" stAng="10800000" swAng="-5400000"/>
                    <a:lnTo>
                      <a:pt x="18000" y="730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2600" y="1672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2600" y="1784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2600" y="1820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2600" y="18583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2600" y="18954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2600" y="1932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468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732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996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832320" y="2344680"/>
            <a:ext cx="1756800" cy="384120"/>
            <a:chOff x="832320" y="2344680"/>
            <a:chExt cx="1756800" cy="384120"/>
          </a:xfrm>
        </p:grpSpPr>
        <p:sp>
          <p:nvSpPr>
            <p:cNvPr id="461" name=""/>
            <p:cNvSpPr/>
            <p:nvPr/>
          </p:nvSpPr>
          <p:spPr>
            <a:xfrm>
              <a:off x="1479600" y="2424240"/>
              <a:ext cx="110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UMTS Busines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2320" y="2470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293840" y="2344680"/>
              <a:ext cx="109440" cy="371520"/>
              <a:chOff x="1293840" y="2344680"/>
              <a:chExt cx="109440" cy="371520"/>
            </a:xfrm>
          </p:grpSpPr>
          <p:sp>
            <p:nvSpPr>
              <p:cNvPr id="464" name=""/>
              <p:cNvSpPr/>
              <p:nvPr/>
            </p:nvSpPr>
            <p:spPr>
              <a:xfrm>
                <a:off x="1293840" y="234468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93840" y="24188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293840" y="25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293840" y="25675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3840" y="2604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3840" y="26420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293840" y="26791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592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4856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2120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345960" y="5549760"/>
            <a:ext cx="947880" cy="524160"/>
            <a:chOff x="345960" y="5549760"/>
            <a:chExt cx="947880" cy="524160"/>
          </a:xfrm>
        </p:grpSpPr>
        <p:grpSp>
          <p:nvGrpSpPr>
            <p:cNvPr id="475" name=""/>
            <p:cNvGrpSpPr/>
            <p:nvPr/>
          </p:nvGrpSpPr>
          <p:grpSpPr>
            <a:xfrm>
              <a:off x="396720" y="5702400"/>
              <a:ext cx="108000" cy="371520"/>
              <a:chOff x="396720" y="5702400"/>
              <a:chExt cx="108000" cy="371520"/>
            </a:xfrm>
          </p:grpSpPr>
          <p:sp>
            <p:nvSpPr>
              <p:cNvPr id="476" name=""/>
              <p:cNvSpPr/>
              <p:nvPr/>
            </p:nvSpPr>
            <p:spPr>
              <a:xfrm>
                <a:off x="396720" y="5702400"/>
                <a:ext cx="108000" cy="37152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4129">
                    <a:moveTo>
                      <a:pt x="3600" y="0"/>
                    </a:moveTo>
                    <a:arcTo wR="3600" hR="3600" stAng="16200000" swAng="-5400000"/>
                    <a:lnTo>
                      <a:pt x="0" y="70529"/>
                    </a:lnTo>
                    <a:arcTo wR="3600" hR="3600" stAng="10800000" swAng="-5400000"/>
                    <a:lnTo>
                      <a:pt x="18000" y="741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6720" y="57765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6720" y="5888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6720" y="5925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6720" y="5962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6720" y="5999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6720" y="6036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7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0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23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96880" y="576432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5960" y="5549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720" y="5640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632320" y="2395440"/>
            <a:ext cx="1959840" cy="602640"/>
            <a:chOff x="2632320" y="2395440"/>
            <a:chExt cx="1959840" cy="602640"/>
          </a:xfrm>
        </p:grpSpPr>
        <p:grpSp>
          <p:nvGrpSpPr>
            <p:cNvPr id="490" name=""/>
            <p:cNvGrpSpPr/>
            <p:nvPr/>
          </p:nvGrpSpPr>
          <p:grpSpPr>
            <a:xfrm>
              <a:off x="2632320" y="2395440"/>
              <a:ext cx="1959840" cy="426240"/>
              <a:chOff x="2632320" y="2395440"/>
              <a:chExt cx="1959840" cy="42624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2632320" y="2395440"/>
                <a:ext cx="1959840" cy="426240"/>
                <a:chOff x="2632320" y="2395440"/>
                <a:chExt cx="1959840" cy="4262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3305160" y="2395440"/>
                  <a:ext cx="12870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eac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Electra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End imaging (3-4 Mp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632320" y="25257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021120" y="2428920"/>
                <a:ext cx="186840" cy="349200"/>
                <a:chOff x="3021120" y="2428920"/>
                <a:chExt cx="186840" cy="3492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095640" y="2428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021120" y="263700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095640" y="249876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095640" y="2603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082680" y="2656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058920" y="26910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043080" y="2725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3054240" y="265608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024000" y="2754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3080880" y="2657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3109680" y="265608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3057840" y="2860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451640" y="1349280"/>
            <a:ext cx="1627200" cy="551520"/>
            <a:chOff x="7451640" y="1349280"/>
            <a:chExt cx="1627200" cy="551520"/>
          </a:xfrm>
        </p:grpSpPr>
        <p:grpSp>
          <p:nvGrpSpPr>
            <p:cNvPr id="508" name=""/>
            <p:cNvGrpSpPr/>
            <p:nvPr/>
          </p:nvGrpSpPr>
          <p:grpSpPr>
            <a:xfrm>
              <a:off x="7451640" y="1349280"/>
              <a:ext cx="1627200" cy="551520"/>
              <a:chOff x="7451640" y="1349280"/>
              <a:chExt cx="1627200" cy="551520"/>
            </a:xfrm>
          </p:grpSpPr>
          <p:sp>
            <p:nvSpPr>
              <p:cNvPr id="509" name=""/>
              <p:cNvSpPr/>
              <p:nvPr/>
            </p:nvSpPr>
            <p:spPr>
              <a:xfrm>
                <a:off x="8744400" y="1579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451640" y="1474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502480" y="1349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8402400" y="1488960"/>
                <a:ext cx="345960" cy="371520"/>
                <a:chOff x="8402400" y="1488960"/>
                <a:chExt cx="345960" cy="3715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402400" y="1606680"/>
                  <a:ext cx="345960" cy="96840"/>
                </a:xfrm>
                <a:prstGeom prst="rect">
                  <a:avLst/>
                </a:prstGeom>
                <a:solidFill>
                  <a:srgbClr val="87b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" name=""/>
                <p:cNvGrpSpPr/>
                <p:nvPr/>
              </p:nvGrpSpPr>
              <p:grpSpPr>
                <a:xfrm>
                  <a:off x="8507160" y="1488960"/>
                  <a:ext cx="109440" cy="371520"/>
                  <a:chOff x="8507160" y="1488960"/>
                  <a:chExt cx="109440" cy="37152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>
                    <a:off x="8507160" y="1488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7b8e5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8507160" y="1563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8507160" y="1674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8507160" y="1711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8507160" y="1748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8507160" y="1786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8507160" y="1823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858924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856188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853452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5" name=""/>
            <p:cNvSpPr/>
            <p:nvPr/>
          </p:nvSpPr>
          <p:spPr>
            <a:xfrm>
              <a:off x="8687160" y="1752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608200" y="4356000"/>
            <a:ext cx="2286000" cy="747360"/>
            <a:chOff x="2608200" y="4356000"/>
            <a:chExt cx="2286000" cy="747360"/>
          </a:xfrm>
        </p:grpSpPr>
        <p:sp>
          <p:nvSpPr>
            <p:cNvPr id="527" name=""/>
            <p:cNvSpPr/>
            <p:nvPr/>
          </p:nvSpPr>
          <p:spPr>
            <a:xfrm>
              <a:off x="4076640" y="4716360"/>
              <a:ext cx="519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98680" y="443376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08200" y="455436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62440" y="43560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1940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2890800" y="4506840"/>
              <a:ext cx="186840" cy="349200"/>
              <a:chOff x="2890800" y="4506840"/>
              <a:chExt cx="186840" cy="349200"/>
            </a:xfrm>
          </p:grpSpPr>
          <p:sp>
            <p:nvSpPr>
              <p:cNvPr id="533" name=""/>
              <p:cNvSpPr/>
              <p:nvPr/>
            </p:nvSpPr>
            <p:spPr>
              <a:xfrm>
                <a:off x="296532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89080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6532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6532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95236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92860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1276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292392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9368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295056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97936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3059280" y="4506840"/>
              <a:ext cx="186840" cy="349200"/>
              <a:chOff x="3059280" y="4506840"/>
              <a:chExt cx="186840" cy="349200"/>
            </a:xfrm>
          </p:grpSpPr>
          <p:sp>
            <p:nvSpPr>
              <p:cNvPr id="545" name=""/>
              <p:cNvSpPr/>
              <p:nvPr/>
            </p:nvSpPr>
            <p:spPr>
              <a:xfrm>
                <a:off x="313380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05928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3380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3380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2084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9708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8124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09240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06216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311904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14784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2927880" y="49291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043960" y="5535720"/>
            <a:ext cx="1688760" cy="560880"/>
            <a:chOff x="5043960" y="5535720"/>
            <a:chExt cx="1688760" cy="560880"/>
          </a:xfrm>
        </p:grpSpPr>
        <p:sp>
          <p:nvSpPr>
            <p:cNvPr id="558" name=""/>
            <p:cNvSpPr/>
            <p:nvPr/>
          </p:nvSpPr>
          <p:spPr>
            <a:xfrm>
              <a:off x="504396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5396040" y="5668920"/>
              <a:ext cx="110880" cy="371520"/>
              <a:chOff x="5396040" y="5668920"/>
              <a:chExt cx="110880" cy="371520"/>
            </a:xfrm>
          </p:grpSpPr>
          <p:sp>
            <p:nvSpPr>
              <p:cNvPr id="560" name=""/>
              <p:cNvSpPr/>
              <p:nvPr/>
            </p:nvSpPr>
            <p:spPr>
              <a:xfrm>
                <a:off x="5396040" y="566892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396040" y="5743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96040" y="58546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96040" y="589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396040" y="592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96040" y="5966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96040" y="60033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79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5148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376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5394240" y="553572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97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56640" y="5884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264040" y="5516640"/>
            <a:ext cx="1882440" cy="708120"/>
            <a:chOff x="2264040" y="5516640"/>
            <a:chExt cx="1882440" cy="708120"/>
          </a:xfrm>
        </p:grpSpPr>
        <p:grpSp>
          <p:nvGrpSpPr>
            <p:cNvPr id="574" name=""/>
            <p:cNvGrpSpPr/>
            <p:nvPr/>
          </p:nvGrpSpPr>
          <p:grpSpPr>
            <a:xfrm>
              <a:off x="2639880" y="5665680"/>
              <a:ext cx="111240" cy="371520"/>
              <a:chOff x="2639880" y="5665680"/>
              <a:chExt cx="111240" cy="371520"/>
            </a:xfrm>
          </p:grpSpPr>
          <p:sp>
            <p:nvSpPr>
              <p:cNvPr id="575" name=""/>
              <p:cNvSpPr/>
              <p:nvPr/>
            </p:nvSpPr>
            <p:spPr>
              <a:xfrm>
                <a:off x="2639880" y="566568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639880" y="5739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639880" y="5851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639880" y="58885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39880" y="59256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639880" y="59630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639880" y="6000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234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69532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676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2865600" y="5676840"/>
              <a:ext cx="1280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64040" y="5786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29080" y="5516640"/>
              <a:ext cx="12996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64480" y="5981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7101000" y="4430880"/>
            <a:ext cx="1771560" cy="654480"/>
            <a:chOff x="7101000" y="4430880"/>
            <a:chExt cx="1771560" cy="654480"/>
          </a:xfrm>
        </p:grpSpPr>
        <p:sp>
          <p:nvSpPr>
            <p:cNvPr id="590" name=""/>
            <p:cNvSpPr/>
            <p:nvPr/>
          </p:nvSpPr>
          <p:spPr>
            <a:xfrm>
              <a:off x="7101000" y="443088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38120" y="4511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8375760" y="4441680"/>
              <a:ext cx="108000" cy="370800"/>
              <a:chOff x="8375760" y="4441680"/>
              <a:chExt cx="108000" cy="370800"/>
            </a:xfrm>
          </p:grpSpPr>
          <p:sp>
            <p:nvSpPr>
              <p:cNvPr id="593" name=""/>
              <p:cNvSpPr/>
              <p:nvPr/>
            </p:nvSpPr>
            <p:spPr>
              <a:xfrm>
                <a:off x="8375760" y="4441680"/>
                <a:ext cx="108000" cy="37080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0800"/>
                  <a:gd name="textAreaBottom" fmla="*/ 365760 h 370800"/>
                </a:gdLst>
                <a:ahLst/>
                <a:rect l="textAreaLeft" t="textAreaTop" r="textAreaRight" b="textAreaBottom"/>
                <a:pathLst>
                  <a:path w="21600" h="73985">
                    <a:moveTo>
                      <a:pt x="3600" y="0"/>
                    </a:moveTo>
                    <a:arcTo wR="3600" hR="3600" stAng="16200000" swAng="-5400000"/>
                    <a:lnTo>
                      <a:pt x="0" y="70385"/>
                    </a:lnTo>
                    <a:arcTo wR="3600" hR="3600" stAng="10800000" swAng="-5400000"/>
                    <a:lnTo>
                      <a:pt x="18000" y="73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375760" y="4515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375760" y="46270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375760" y="4664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375760" y="4701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75760" y="4738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375760" y="47754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456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29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402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7938000" y="4947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7423200" y="3429000"/>
            <a:ext cx="1396800" cy="517680"/>
            <a:chOff x="7423200" y="3429000"/>
            <a:chExt cx="1396800" cy="517680"/>
          </a:xfrm>
        </p:grpSpPr>
        <p:grpSp>
          <p:nvGrpSpPr>
            <p:cNvPr id="605" name=""/>
            <p:cNvGrpSpPr/>
            <p:nvPr/>
          </p:nvGrpSpPr>
          <p:grpSpPr>
            <a:xfrm>
              <a:off x="7683480" y="3481560"/>
              <a:ext cx="1136520" cy="465120"/>
              <a:chOff x="7683480" y="3481560"/>
              <a:chExt cx="1136520" cy="46512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83480" y="3571920"/>
                <a:ext cx="186840" cy="349200"/>
                <a:chOff x="7683480" y="3571920"/>
                <a:chExt cx="186840" cy="3492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758000" y="3571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83480" y="377964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758000" y="3641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58000" y="3746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745040" y="37987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721280" y="3833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705440" y="386856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716600" y="37987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686360" y="3897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>
                  <a:off x="7743240" y="3800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>
                  <a:off x="7773480" y="37987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7986960" y="34815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929360" y="364212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7746840" y="34290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23200" y="3692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624040" y="3357720"/>
            <a:ext cx="1351080" cy="700200"/>
            <a:chOff x="2624040" y="3357720"/>
            <a:chExt cx="1351080" cy="700200"/>
          </a:xfrm>
        </p:grpSpPr>
        <p:grpSp>
          <p:nvGrpSpPr>
            <p:cNvPr id="623" name=""/>
            <p:cNvGrpSpPr/>
            <p:nvPr/>
          </p:nvGrpSpPr>
          <p:grpSpPr>
            <a:xfrm>
              <a:off x="2624040" y="3357720"/>
              <a:ext cx="1351080" cy="700200"/>
              <a:chOff x="2624040" y="3357720"/>
              <a:chExt cx="1351080" cy="7002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3030480" y="3383280"/>
                <a:ext cx="109440" cy="371520"/>
                <a:chOff x="3030480" y="3383280"/>
                <a:chExt cx="109440" cy="3715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3030480" y="338328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030480" y="34581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030480" y="3569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030480" y="36057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030480" y="36439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030480" y="36802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030480" y="37184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112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085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05748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2624040" y="3357720"/>
                <a:ext cx="1351080" cy="700200"/>
                <a:chOff x="2624040" y="3357720"/>
                <a:chExt cx="1351080" cy="700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203640" y="335772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624040" y="347688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2985480" y="381024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 rot="16200000">
            <a:off x="-2255400" y="3918600"/>
            <a:ext cx="46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875640" y="2781360"/>
            <a:ext cx="1322280" cy="600120"/>
            <a:chOff x="6875640" y="2781360"/>
            <a:chExt cx="1322280" cy="600120"/>
          </a:xfrm>
        </p:grpSpPr>
        <p:sp>
          <p:nvSpPr>
            <p:cNvPr id="641" name=""/>
            <p:cNvSpPr/>
            <p:nvPr/>
          </p:nvSpPr>
          <p:spPr>
            <a:xfrm>
              <a:off x="6875640" y="3114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7108920" y="2781360"/>
              <a:ext cx="1089000" cy="600120"/>
              <a:chOff x="7108920" y="2781360"/>
              <a:chExt cx="1089000" cy="600120"/>
            </a:xfrm>
          </p:grpSpPr>
          <p:sp>
            <p:nvSpPr>
              <p:cNvPr id="643" name=""/>
              <p:cNvSpPr/>
              <p:nvPr/>
            </p:nvSpPr>
            <p:spPr>
              <a:xfrm>
                <a:off x="7358040" y="294948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85040" y="278136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5" name=""/>
              <p:cNvGrpSpPr/>
              <p:nvPr/>
            </p:nvGrpSpPr>
            <p:grpSpPr>
              <a:xfrm>
                <a:off x="7108920" y="2982960"/>
                <a:ext cx="186840" cy="349200"/>
                <a:chOff x="7108920" y="2982960"/>
                <a:chExt cx="186840" cy="3492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7183440" y="298296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7108920" y="319104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183440" y="305280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183440" y="31575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170480" y="32101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146720" y="32450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130880" y="32799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7142040" y="32101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111800" y="33084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7168680" y="321156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7197480" y="321012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7172280" y="283032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"/>
          <p:cNvGrpSpPr/>
          <p:nvPr/>
        </p:nvGrpSpPr>
        <p:grpSpPr>
          <a:xfrm>
            <a:off x="7256520" y="3994200"/>
            <a:ext cx="2068200" cy="349200"/>
            <a:chOff x="7256520" y="3994200"/>
            <a:chExt cx="2068200" cy="349200"/>
          </a:xfrm>
        </p:grpSpPr>
        <p:sp>
          <p:nvSpPr>
            <p:cNvPr id="659" name=""/>
            <p:cNvSpPr/>
            <p:nvPr/>
          </p:nvSpPr>
          <p:spPr>
            <a:xfrm>
              <a:off x="7956360" y="40640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56520" y="413064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7688160" y="3994200"/>
              <a:ext cx="186840" cy="349200"/>
              <a:chOff x="7688160" y="3994200"/>
              <a:chExt cx="186840" cy="349200"/>
            </a:xfrm>
          </p:grpSpPr>
          <p:sp>
            <p:nvSpPr>
              <p:cNvPr id="662" name=""/>
              <p:cNvSpPr/>
              <p:nvPr/>
            </p:nvSpPr>
            <p:spPr>
              <a:xfrm>
                <a:off x="7762680" y="399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88160" y="420192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762680" y="406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762680" y="416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49720" y="4221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725960" y="4255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710120" y="429084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7721280" y="4221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91040" y="431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7747920" y="422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7778160" y="42210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3741840" y="1496880"/>
            <a:ext cx="1512720" cy="936360"/>
            <a:chOff x="3741840" y="1496880"/>
            <a:chExt cx="1512720" cy="936360"/>
          </a:xfrm>
        </p:grpSpPr>
        <p:sp>
          <p:nvSpPr>
            <p:cNvPr id="674" name=""/>
            <p:cNvSpPr/>
            <p:nvPr/>
          </p:nvSpPr>
          <p:spPr>
            <a:xfrm>
              <a:off x="3741840" y="1496880"/>
              <a:ext cx="151272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4757760" y="1882440"/>
              <a:ext cx="427320" cy="139680"/>
              <a:chOff x="4757760" y="1882440"/>
              <a:chExt cx="427320" cy="139680"/>
            </a:xfrm>
          </p:grpSpPr>
          <p:sp>
            <p:nvSpPr>
              <p:cNvPr id="676" name=""/>
              <p:cNvSpPr/>
              <p:nvPr/>
            </p:nvSpPr>
            <p:spPr>
              <a:xfrm>
                <a:off x="4757760" y="188244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922280" y="1900080"/>
                <a:ext cx="26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3781440" y="2203200"/>
              <a:ext cx="1139040" cy="193680"/>
              <a:chOff x="3781440" y="2203200"/>
              <a:chExt cx="1139040" cy="193680"/>
            </a:xfrm>
          </p:grpSpPr>
          <p:sp>
            <p:nvSpPr>
              <p:cNvPr id="679" name=""/>
              <p:cNvSpPr/>
              <p:nvPr/>
            </p:nvSpPr>
            <p:spPr>
              <a:xfrm>
                <a:off x="3781440" y="22032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79440" y="22428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816360" y="1868400"/>
              <a:ext cx="846000" cy="152640"/>
              <a:chOff x="3816360" y="1868400"/>
              <a:chExt cx="846000" cy="152640"/>
            </a:xfrm>
          </p:grpSpPr>
          <p:sp>
            <p:nvSpPr>
              <p:cNvPr id="682" name=""/>
              <p:cNvSpPr/>
              <p:nvPr/>
            </p:nvSpPr>
            <p:spPr>
              <a:xfrm>
                <a:off x="3816360" y="187632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986640" y="186840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4471920" y="1537920"/>
              <a:ext cx="280440" cy="291960"/>
              <a:chOff x="4471920" y="1537920"/>
              <a:chExt cx="280440" cy="29196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4471920" y="1537920"/>
                <a:ext cx="78120" cy="291960"/>
                <a:chOff x="4471920" y="1537920"/>
                <a:chExt cx="78120" cy="291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4471920" y="15379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7b8e5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471920" y="15962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71920" y="1684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471920" y="17128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471920" y="17424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471920" y="17715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471920" y="18007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5306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5108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4913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4619160" y="16329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762440" y="1537920"/>
              <a:ext cx="375480" cy="291960"/>
              <a:chOff x="4762440" y="1537920"/>
              <a:chExt cx="375480" cy="29196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4762440" y="1537920"/>
                <a:ext cx="77040" cy="291960"/>
                <a:chOff x="4762440" y="1537920"/>
                <a:chExt cx="77040" cy="2919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4762440" y="15379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762440" y="15962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762440" y="1684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62440" y="17128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62440" y="17424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762440" y="17715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762440" y="18007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82004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8009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8152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4893480" y="16329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3789720" y="15537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86640" y="206496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APA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28960" y="2052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967320" y="4292640"/>
            <a:ext cx="1470960" cy="576360"/>
            <a:chOff x="967320" y="4292640"/>
            <a:chExt cx="1470960" cy="576360"/>
          </a:xfrm>
        </p:grpSpPr>
        <p:grpSp>
          <p:nvGrpSpPr>
            <p:cNvPr id="714" name=""/>
            <p:cNvGrpSpPr/>
            <p:nvPr/>
          </p:nvGrpSpPr>
          <p:grpSpPr>
            <a:xfrm>
              <a:off x="967320" y="4292640"/>
              <a:ext cx="1470960" cy="576360"/>
              <a:chOff x="967320" y="4292640"/>
              <a:chExt cx="1470960" cy="57636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967320" y="4292640"/>
                <a:ext cx="1470960" cy="576360"/>
                <a:chOff x="967320" y="4292640"/>
                <a:chExt cx="1470960" cy="5763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967320" y="429264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04800" y="4321080"/>
                  <a:ext cx="933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Flamin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Stylish&amp;smal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affordable sli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8" name=""/>
                <p:cNvGrpSpPr/>
                <p:nvPr/>
              </p:nvGrpSpPr>
              <p:grpSpPr>
                <a:xfrm>
                  <a:off x="1185840" y="4357800"/>
                  <a:ext cx="303120" cy="204840"/>
                  <a:chOff x="1185840" y="4357800"/>
                  <a:chExt cx="303120" cy="20484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1185840" y="4462560"/>
                    <a:ext cx="236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269720" y="44769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1238040" y="4500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1217520" y="4526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>
                    <a:off x="123156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190520" y="4545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>
                    <a:off x="1266480" y="4478400"/>
                    <a:ext cx="76320" cy="6696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130788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1252440" y="4357800"/>
                    <a:ext cx="2365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1326960" y="43894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1284120" y="4434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0" name=""/>
              <p:cNvSpPr/>
              <p:nvPr/>
            </p:nvSpPr>
            <p:spPr>
              <a:xfrm>
                <a:off x="1134000" y="4619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1008000" y="4464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09120" y="3002040"/>
            <a:ext cx="2196000" cy="426600"/>
            <a:chOff x="609120" y="3002040"/>
            <a:chExt cx="2196000" cy="426600"/>
          </a:xfrm>
        </p:grpSpPr>
        <p:sp>
          <p:nvSpPr>
            <p:cNvPr id="733" name=""/>
            <p:cNvSpPr/>
            <p:nvPr/>
          </p:nvSpPr>
          <p:spPr>
            <a:xfrm>
              <a:off x="609120" y="300204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Siemens Sans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844920" y="3065400"/>
              <a:ext cx="1960200" cy="363240"/>
              <a:chOff x="844920" y="3065400"/>
              <a:chExt cx="1960200" cy="36324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844920" y="3065400"/>
                <a:ext cx="1960200" cy="363240"/>
                <a:chOff x="844920" y="3065400"/>
                <a:chExt cx="1960200" cy="36324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844920" y="3065400"/>
                  <a:ext cx="1960200" cy="304560"/>
                  <a:chOff x="844920" y="3065400"/>
                  <a:chExt cx="1960200" cy="30456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1517760" y="3065400"/>
                    <a:ext cx="1287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Siemens Sans"/>
                      </a:rPr>
                      <a:t>Electra MM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0" lang="de-DE" sz="800" spc="-1" strike="noStrike">
                        <a:solidFill>
                          <a:srgbClr val="000000"/>
                        </a:solidFill>
                        <a:latin typeface="Siemens Sans"/>
                      </a:rPr>
                      <a:t>(TBD) (PPM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44920" y="3130560"/>
                    <a:ext cx="3344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11/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1217520" y="3079440"/>
                  <a:ext cx="187560" cy="349200"/>
                  <a:chOff x="1217520" y="3079440"/>
                  <a:chExt cx="187560" cy="34920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>
                    <a:off x="1292400" y="3079440"/>
                    <a:ext cx="112680" cy="209520"/>
                  </a:xfrm>
                  <a:custGeom>
                    <a:avLst/>
                    <a:gdLst>
                      <a:gd name="textAreaLeft" fmla="*/ 5400 w 112680"/>
                      <a:gd name="textAreaRight" fmla="*/ 107280 w 112680"/>
                      <a:gd name="textAreaTop" fmla="*/ 5400 h 209520"/>
                      <a:gd name="textAreaBottom" fmla="*/ 204120 h 209520"/>
                    </a:gdLst>
                    <a:ahLst/>
                    <a:rect l="textAreaLeft" t="textAreaTop" r="textAreaRight" b="textAreaBottom"/>
                    <a:pathLst>
                      <a:path w="21600" h="4010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36504"/>
                        </a:lnTo>
                        <a:arcTo wR="3600" hR="3600" stAng="10800000" swAng="-5400000"/>
                        <a:lnTo>
                          <a:pt x="18000" y="4010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8d34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217520" y="3287520"/>
                    <a:ext cx="17460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e68d34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292400" y="3149280"/>
                    <a:ext cx="1108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292400" y="325404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279440" y="330660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255680" y="3341520"/>
                    <a:ext cx="1144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239840" y="3376440"/>
                    <a:ext cx="1144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>
                    <a:off x="1250640" y="3306600"/>
                    <a:ext cx="57240" cy="968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220760" y="340488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>
                    <a:off x="1278000" y="3308040"/>
                    <a:ext cx="55440" cy="968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H="1">
                    <a:off x="1306080" y="3306600"/>
                    <a:ext cx="57240" cy="950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51" name=""/>
              <p:cNvSpPr/>
              <p:nvPr/>
            </p:nvSpPr>
            <p:spPr>
              <a:xfrm>
                <a:off x="1042920" y="3284640"/>
                <a:ext cx="10800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2" name=""/>
          <p:cNvSpPr/>
          <p:nvPr/>
        </p:nvSpPr>
        <p:spPr>
          <a:xfrm>
            <a:off x="2798640" y="437508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75000" y="553392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280400" y="3979800"/>
            <a:ext cx="2452320" cy="675720"/>
            <a:chOff x="4280400" y="3979800"/>
            <a:chExt cx="2452320" cy="675720"/>
          </a:xfrm>
        </p:grpSpPr>
        <p:grpSp>
          <p:nvGrpSpPr>
            <p:cNvPr id="755" name=""/>
            <p:cNvGrpSpPr/>
            <p:nvPr/>
          </p:nvGrpSpPr>
          <p:grpSpPr>
            <a:xfrm>
              <a:off x="4280400" y="3979800"/>
              <a:ext cx="2452320" cy="675720"/>
              <a:chOff x="4280400" y="3979800"/>
              <a:chExt cx="2452320" cy="67572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4633920" y="4119480"/>
                <a:ext cx="186840" cy="349200"/>
                <a:chOff x="4633920" y="4119480"/>
                <a:chExt cx="186840" cy="34920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4708440" y="411948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633920" y="432756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708440" y="418932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708440" y="4294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695480" y="4346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671720" y="43815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655880" y="44164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4667040" y="434664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636800" y="44449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4693680" y="434808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4722480" y="434664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" name=""/>
              <p:cNvSpPr/>
              <p:nvPr/>
            </p:nvSpPr>
            <p:spPr>
              <a:xfrm>
                <a:off x="4919760" y="4048200"/>
                <a:ext cx="1812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Nightingale</a:t>
                </a: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Adonis II) </a:t>
                </a: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2nd ID Chin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Young  Music / Stereo loudsp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280400" y="42069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4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778280" y="39798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583520" y="45180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614840" y="399240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443480" y="4005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072400" y="4594320"/>
            <a:ext cx="1476000" cy="660600"/>
            <a:chOff x="5072400" y="4594320"/>
            <a:chExt cx="1476000" cy="660600"/>
          </a:xfrm>
        </p:grpSpPr>
        <p:grpSp>
          <p:nvGrpSpPr>
            <p:cNvPr id="775" name=""/>
            <p:cNvGrpSpPr/>
            <p:nvPr/>
          </p:nvGrpSpPr>
          <p:grpSpPr>
            <a:xfrm>
              <a:off x="5072400" y="4594320"/>
              <a:ext cx="1476000" cy="660600"/>
              <a:chOff x="5072400" y="4594320"/>
              <a:chExt cx="1476000" cy="660600"/>
            </a:xfrm>
          </p:grpSpPr>
          <p:sp>
            <p:nvSpPr>
              <p:cNvPr id="776" name=""/>
              <p:cNvSpPr/>
              <p:nvPr/>
            </p:nvSpPr>
            <p:spPr>
              <a:xfrm>
                <a:off x="5640480" y="4707000"/>
                <a:ext cx="90792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Bramb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Herme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Basic im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72400" y="46530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5438880" y="4651200"/>
                <a:ext cx="109440" cy="371520"/>
                <a:chOff x="5438880" y="4651200"/>
                <a:chExt cx="109440" cy="3715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5438880" y="465120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438880" y="47253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438880" y="4836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438880" y="4874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438880" y="49111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38880" y="49485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438880" y="49856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52096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49360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46624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" name=""/>
              <p:cNvSpPr/>
              <p:nvPr/>
            </p:nvSpPr>
            <p:spPr>
              <a:xfrm>
                <a:off x="5810400" y="4594320"/>
                <a:ext cx="12996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146920" y="48052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641920" y="45957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7380360" y="2039760"/>
            <a:ext cx="1623960" cy="401760"/>
            <a:chOff x="7380360" y="2039760"/>
            <a:chExt cx="1623960" cy="401760"/>
          </a:xfrm>
        </p:grpSpPr>
        <p:grpSp>
          <p:nvGrpSpPr>
            <p:cNvPr id="793" name=""/>
            <p:cNvGrpSpPr/>
            <p:nvPr/>
          </p:nvGrpSpPr>
          <p:grpSpPr>
            <a:xfrm>
              <a:off x="7444080" y="2039760"/>
              <a:ext cx="1560240" cy="401760"/>
              <a:chOff x="7444080" y="2039760"/>
              <a:chExt cx="1560240" cy="401760"/>
            </a:xfrm>
          </p:grpSpPr>
          <p:sp>
            <p:nvSpPr>
              <p:cNvPr id="794" name=""/>
              <p:cNvSpPr/>
              <p:nvPr/>
            </p:nvSpPr>
            <p:spPr>
              <a:xfrm>
                <a:off x="7740720" y="2101680"/>
                <a:ext cx="1263600" cy="285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iemens Sans"/>
                  </a:rPr>
                  <a:t>Hummingbi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(Hydra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High-end sty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444080" y="22888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7507440" y="2039760"/>
                <a:ext cx="303120" cy="204840"/>
                <a:chOff x="7507440" y="2039760"/>
                <a:chExt cx="303120" cy="2048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7507440" y="2144520"/>
                  <a:ext cx="236520" cy="1000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591320" y="2158920"/>
                  <a:ext cx="1526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559640" y="218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539120" y="220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>
                  <a:off x="755316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512120" y="222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7588080" y="2160360"/>
                  <a:ext cx="76320" cy="6696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>
                  <a:off x="762948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574040" y="2039760"/>
                  <a:ext cx="236520" cy="12384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648560" y="20714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605720" y="21160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8" name=""/>
              <p:cNvSpPr/>
              <p:nvPr/>
            </p:nvSpPr>
            <p:spPr>
              <a:xfrm>
                <a:off x="7845840" y="21906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8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7380360" y="206064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727520" y="2227320"/>
            <a:ext cx="2428920" cy="551520"/>
            <a:chOff x="4727520" y="2227320"/>
            <a:chExt cx="2428920" cy="551520"/>
          </a:xfrm>
        </p:grpSpPr>
        <p:sp>
          <p:nvSpPr>
            <p:cNvPr id="811" name=""/>
            <p:cNvSpPr/>
            <p:nvPr/>
          </p:nvSpPr>
          <p:spPr>
            <a:xfrm>
              <a:off x="6480000" y="222732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27520" y="235260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78720" y="22892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90000" y="2635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6386400" y="2349360"/>
              <a:ext cx="303480" cy="204840"/>
              <a:chOff x="6386400" y="2349360"/>
              <a:chExt cx="303480" cy="204840"/>
            </a:xfrm>
          </p:grpSpPr>
          <p:sp>
            <p:nvSpPr>
              <p:cNvPr id="816" name=""/>
              <p:cNvSpPr/>
              <p:nvPr/>
            </p:nvSpPr>
            <p:spPr>
              <a:xfrm>
                <a:off x="6386400" y="24541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70640" y="24685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438960" y="2492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18440" y="251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643248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91440" y="25369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467400" y="24703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650880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53360" y="23493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27880" y="23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85040" y="24256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4795920" y="1773360"/>
            <a:ext cx="2347920" cy="426240"/>
            <a:chOff x="4795920" y="1773360"/>
            <a:chExt cx="2347920" cy="426240"/>
          </a:xfrm>
        </p:grpSpPr>
        <p:sp>
          <p:nvSpPr>
            <p:cNvPr id="828" name=""/>
            <p:cNvSpPr/>
            <p:nvPr/>
          </p:nvSpPr>
          <p:spPr>
            <a:xfrm>
              <a:off x="4795920" y="177336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65760" y="1836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06080" y="2008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6381720" y="1835280"/>
              <a:ext cx="302760" cy="204120"/>
              <a:chOff x="6381720" y="1835280"/>
              <a:chExt cx="302760" cy="204120"/>
            </a:xfrm>
          </p:grpSpPr>
          <p:sp>
            <p:nvSpPr>
              <p:cNvPr id="832" name=""/>
              <p:cNvSpPr/>
              <p:nvPr/>
            </p:nvSpPr>
            <p:spPr>
              <a:xfrm>
                <a:off x="6381720" y="1939680"/>
                <a:ext cx="23616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65600" y="19540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33920" y="19778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3400" y="200340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642708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386400" y="2022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6462000" y="19558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650340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48320" y="1835280"/>
                <a:ext cx="23616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522840" y="18669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80000" y="19112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"/>
          <p:cNvGrpSpPr/>
          <p:nvPr/>
        </p:nvGrpSpPr>
        <p:grpSpPr>
          <a:xfrm>
            <a:off x="3843360" y="2682720"/>
            <a:ext cx="2124000" cy="674280"/>
            <a:chOff x="3843360" y="2682720"/>
            <a:chExt cx="2124000" cy="674280"/>
          </a:xfrm>
        </p:grpSpPr>
        <p:sp>
          <p:nvSpPr>
            <p:cNvPr id="844" name=""/>
            <p:cNvSpPr/>
            <p:nvPr/>
          </p:nvSpPr>
          <p:spPr>
            <a:xfrm>
              <a:off x="3843360" y="2860560"/>
              <a:ext cx="1636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89640" y="26827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78560" y="3219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5613480" y="2817720"/>
              <a:ext cx="109440" cy="371520"/>
              <a:chOff x="5613480" y="2817720"/>
              <a:chExt cx="109440" cy="371520"/>
            </a:xfrm>
          </p:grpSpPr>
          <p:sp>
            <p:nvSpPr>
              <p:cNvPr id="848" name=""/>
              <p:cNvSpPr/>
              <p:nvPr/>
            </p:nvSpPr>
            <p:spPr>
              <a:xfrm>
                <a:off x="5613480" y="28177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13480" y="2891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613480" y="3003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613480" y="3040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613480" y="30776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13480" y="31150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613480" y="3152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9556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6820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64084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4114800" y="3200400"/>
            <a:ext cx="1851120" cy="734400"/>
            <a:chOff x="4114800" y="3200400"/>
            <a:chExt cx="1851120" cy="734400"/>
          </a:xfrm>
        </p:grpSpPr>
        <p:grpSp>
          <p:nvGrpSpPr>
            <p:cNvPr id="859" name=""/>
            <p:cNvGrpSpPr/>
            <p:nvPr/>
          </p:nvGrpSpPr>
          <p:grpSpPr>
            <a:xfrm>
              <a:off x="4114800" y="3200400"/>
              <a:ext cx="1851120" cy="734400"/>
              <a:chOff x="4114800" y="3200400"/>
              <a:chExt cx="1851120" cy="73440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4114800" y="3200400"/>
                <a:ext cx="1851120" cy="734400"/>
                <a:chOff x="4114800" y="3200400"/>
                <a:chExt cx="1851120" cy="73440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4597560" y="3291120"/>
                  <a:ext cx="1368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Sw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</a:t>
                  </a: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Minos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2" name=""/>
                <p:cNvGrpSpPr/>
                <p:nvPr/>
              </p:nvGrpSpPr>
              <p:grpSpPr>
                <a:xfrm>
                  <a:off x="4233960" y="3484800"/>
                  <a:ext cx="303120" cy="204120"/>
                  <a:chOff x="4233960" y="3484800"/>
                  <a:chExt cx="303120" cy="20412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4233960" y="3589200"/>
                    <a:ext cx="2365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317840" y="360360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4286160" y="3627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4265640" y="36529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427968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4238640" y="3672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4314600" y="360504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435600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4300560" y="3484800"/>
                    <a:ext cx="2365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4375080" y="3516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4332240" y="3560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4114800" y="3225960"/>
                  <a:ext cx="888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3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513320" y="3200400"/>
                  <a:ext cx="122040" cy="111240"/>
                </a:xfrm>
                <a:prstGeom prst="ellipse">
                  <a:avLst/>
                </a:prstGeom>
                <a:solidFill>
                  <a:srgbClr val="8c9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159440" y="37972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5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97560" y="3594240"/>
                  <a:ext cx="1331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Multimedia;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4659480" y="3208320"/>
                <a:ext cx="10764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4806360" y="3208320"/>
              <a:ext cx="12888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08000" y="202680"/>
            <a:ext cx="875016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85G Hero roadmap scenario: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(Global + APAC + NAM Products: 29 GSM + 4 UMTS)  </a:t>
            </a:r>
            <a:br>
              <a:rPr sz="2000"/>
            </a:b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Siemens Sans"/>
              </a:rPr>
              <a:t>Target Roadmap for planning</a:t>
            </a: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 as of November 26th, 0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885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886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889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7" name=""/>
          <p:cNvGrpSpPr/>
          <p:nvPr/>
        </p:nvGrpSpPr>
        <p:grpSpPr>
          <a:xfrm>
            <a:off x="422280" y="1052640"/>
            <a:ext cx="8165880" cy="420480"/>
            <a:chOff x="422280" y="1052640"/>
            <a:chExt cx="8165880" cy="420480"/>
          </a:xfrm>
        </p:grpSpPr>
        <p:sp>
          <p:nvSpPr>
            <p:cNvPr id="898" name=""/>
            <p:cNvSpPr/>
            <p:nvPr/>
          </p:nvSpPr>
          <p:spPr>
            <a:xfrm>
              <a:off x="246708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5956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22280" y="10526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1780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818160" y="10731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009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13320" y="12715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2280" y="12715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0648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705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3680" y="1492200"/>
            <a:ext cx="1984320" cy="133524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616040" y="156384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552600" y="1471680"/>
            <a:ext cx="1172880" cy="497880"/>
            <a:chOff x="552600" y="1471680"/>
            <a:chExt cx="1172880" cy="497880"/>
          </a:xfrm>
        </p:grpSpPr>
        <p:sp>
          <p:nvSpPr>
            <p:cNvPr id="924" name=""/>
            <p:cNvSpPr/>
            <p:nvPr/>
          </p:nvSpPr>
          <p:spPr>
            <a:xfrm>
              <a:off x="680040" y="147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0720" y="164124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552600" y="1598400"/>
              <a:ext cx="109440" cy="371160"/>
              <a:chOff x="552600" y="1598400"/>
              <a:chExt cx="109440" cy="371160"/>
            </a:xfrm>
          </p:grpSpPr>
          <p:sp>
            <p:nvSpPr>
              <p:cNvPr id="927" name=""/>
              <p:cNvSpPr/>
              <p:nvPr/>
            </p:nvSpPr>
            <p:spPr>
              <a:xfrm>
                <a:off x="552600" y="1598400"/>
                <a:ext cx="109440" cy="37116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3086">
                    <a:moveTo>
                      <a:pt x="3600" y="0"/>
                    </a:moveTo>
                    <a:arcTo wR="3600" hR="3600" stAng="16200000" swAng="-5400000"/>
                    <a:lnTo>
                      <a:pt x="0" y="69486"/>
                    </a:lnTo>
                    <a:arcTo wR="3600" hR="3600" stAng="10800000" swAng="-5400000"/>
                    <a:lnTo>
                      <a:pt x="18000" y="730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52600" y="1672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52600" y="1784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52600" y="1820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52600" y="18583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52600" y="18954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52600" y="1932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3468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0732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7996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832320" y="2344680"/>
            <a:ext cx="1756800" cy="384120"/>
            <a:chOff x="832320" y="2344680"/>
            <a:chExt cx="1756800" cy="384120"/>
          </a:xfrm>
        </p:grpSpPr>
        <p:sp>
          <p:nvSpPr>
            <p:cNvPr id="938" name=""/>
            <p:cNvSpPr/>
            <p:nvPr/>
          </p:nvSpPr>
          <p:spPr>
            <a:xfrm>
              <a:off x="1479600" y="2424240"/>
              <a:ext cx="110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UMTS Busines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2320" y="2470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1293840" y="2344680"/>
              <a:ext cx="109440" cy="371520"/>
              <a:chOff x="1293840" y="2344680"/>
              <a:chExt cx="109440" cy="371520"/>
            </a:xfrm>
          </p:grpSpPr>
          <p:sp>
            <p:nvSpPr>
              <p:cNvPr id="941" name=""/>
              <p:cNvSpPr/>
              <p:nvPr/>
            </p:nvSpPr>
            <p:spPr>
              <a:xfrm>
                <a:off x="1293840" y="234468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293840" y="24188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93840" y="25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93840" y="25675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93840" y="2604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93840" y="26420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93840" y="26791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37592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34856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32120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"/>
          <p:cNvGrpSpPr/>
          <p:nvPr/>
        </p:nvGrpSpPr>
        <p:grpSpPr>
          <a:xfrm>
            <a:off x="345960" y="5549760"/>
            <a:ext cx="947880" cy="524160"/>
            <a:chOff x="345960" y="5549760"/>
            <a:chExt cx="947880" cy="524160"/>
          </a:xfrm>
        </p:grpSpPr>
        <p:grpSp>
          <p:nvGrpSpPr>
            <p:cNvPr id="952" name=""/>
            <p:cNvGrpSpPr/>
            <p:nvPr/>
          </p:nvGrpSpPr>
          <p:grpSpPr>
            <a:xfrm>
              <a:off x="396720" y="5702400"/>
              <a:ext cx="108000" cy="371520"/>
              <a:chOff x="396720" y="5702400"/>
              <a:chExt cx="108000" cy="371520"/>
            </a:xfrm>
          </p:grpSpPr>
          <p:sp>
            <p:nvSpPr>
              <p:cNvPr id="953" name=""/>
              <p:cNvSpPr/>
              <p:nvPr/>
            </p:nvSpPr>
            <p:spPr>
              <a:xfrm>
                <a:off x="396720" y="5702400"/>
                <a:ext cx="108000" cy="37152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4129">
                    <a:moveTo>
                      <a:pt x="3600" y="0"/>
                    </a:moveTo>
                    <a:arcTo wR="3600" hR="3600" stAng="16200000" swAng="-5400000"/>
                    <a:lnTo>
                      <a:pt x="0" y="70529"/>
                    </a:lnTo>
                    <a:arcTo wR="3600" hR="3600" stAng="10800000" swAng="-5400000"/>
                    <a:lnTo>
                      <a:pt x="18000" y="741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96720" y="57765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6720" y="5888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96720" y="5925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96720" y="5962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96720" y="5999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96720" y="6036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7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50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3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596880" y="576432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45960" y="5549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1720" y="5640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632320" y="2395440"/>
            <a:ext cx="1959840" cy="602640"/>
            <a:chOff x="2632320" y="2395440"/>
            <a:chExt cx="1959840" cy="602640"/>
          </a:xfrm>
        </p:grpSpPr>
        <p:grpSp>
          <p:nvGrpSpPr>
            <p:cNvPr id="967" name=""/>
            <p:cNvGrpSpPr/>
            <p:nvPr/>
          </p:nvGrpSpPr>
          <p:grpSpPr>
            <a:xfrm>
              <a:off x="2632320" y="2395440"/>
              <a:ext cx="1959840" cy="426240"/>
              <a:chOff x="2632320" y="2395440"/>
              <a:chExt cx="1959840" cy="42624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2632320" y="2395440"/>
                <a:ext cx="1959840" cy="426240"/>
                <a:chOff x="2632320" y="2395440"/>
                <a:chExt cx="1959840" cy="42624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3305160" y="2395440"/>
                  <a:ext cx="12870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eac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Electra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End imaging (3-4 Mp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632320" y="25257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3021120" y="2428920"/>
                <a:ext cx="186840" cy="349200"/>
                <a:chOff x="3021120" y="2428920"/>
                <a:chExt cx="186840" cy="34920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3095640" y="2428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021120" y="263700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095640" y="249876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095640" y="2603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082680" y="2656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58920" y="26910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043080" y="2725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>
                  <a:off x="3054240" y="265608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024000" y="2754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>
                  <a:off x="3080880" y="2657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3109680" y="265608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3" name=""/>
            <p:cNvSpPr/>
            <p:nvPr/>
          </p:nvSpPr>
          <p:spPr>
            <a:xfrm>
              <a:off x="3057840" y="2860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7451640" y="1349280"/>
            <a:ext cx="1627200" cy="551520"/>
            <a:chOff x="7451640" y="1349280"/>
            <a:chExt cx="1627200" cy="551520"/>
          </a:xfrm>
        </p:grpSpPr>
        <p:grpSp>
          <p:nvGrpSpPr>
            <p:cNvPr id="985" name=""/>
            <p:cNvGrpSpPr/>
            <p:nvPr/>
          </p:nvGrpSpPr>
          <p:grpSpPr>
            <a:xfrm>
              <a:off x="7451640" y="1349280"/>
              <a:ext cx="1627200" cy="551520"/>
              <a:chOff x="7451640" y="1349280"/>
              <a:chExt cx="1627200" cy="551520"/>
            </a:xfrm>
          </p:grpSpPr>
          <p:sp>
            <p:nvSpPr>
              <p:cNvPr id="986" name=""/>
              <p:cNvSpPr/>
              <p:nvPr/>
            </p:nvSpPr>
            <p:spPr>
              <a:xfrm>
                <a:off x="8744400" y="1579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51640" y="1474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502480" y="1349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8402400" y="1488960"/>
                <a:ext cx="345960" cy="371520"/>
                <a:chOff x="8402400" y="1488960"/>
                <a:chExt cx="345960" cy="3715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8402400" y="1606680"/>
                  <a:ext cx="345960" cy="96840"/>
                </a:xfrm>
                <a:prstGeom prst="rect">
                  <a:avLst/>
                </a:prstGeom>
                <a:solidFill>
                  <a:srgbClr val="87b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1" name=""/>
                <p:cNvGrpSpPr/>
                <p:nvPr/>
              </p:nvGrpSpPr>
              <p:grpSpPr>
                <a:xfrm>
                  <a:off x="8507160" y="1488960"/>
                  <a:ext cx="109440" cy="371520"/>
                  <a:chOff x="8507160" y="1488960"/>
                  <a:chExt cx="109440" cy="37152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8507160" y="1488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7b8e5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8507160" y="1563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8507160" y="1674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8507160" y="1711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8507160" y="1748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8507160" y="1786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8507160" y="1823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858924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856188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853452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02" name=""/>
            <p:cNvSpPr/>
            <p:nvPr/>
          </p:nvSpPr>
          <p:spPr>
            <a:xfrm>
              <a:off x="8687160" y="1752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608200" y="4356000"/>
            <a:ext cx="2286000" cy="747360"/>
            <a:chOff x="2608200" y="4356000"/>
            <a:chExt cx="2286000" cy="747360"/>
          </a:xfrm>
        </p:grpSpPr>
        <p:sp>
          <p:nvSpPr>
            <p:cNvPr id="1004" name=""/>
            <p:cNvSpPr/>
            <p:nvPr/>
          </p:nvSpPr>
          <p:spPr>
            <a:xfrm>
              <a:off x="4076640" y="4716360"/>
              <a:ext cx="519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98680" y="443376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08200" y="455436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62440" y="43560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1940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2890800" y="4506840"/>
              <a:ext cx="186840" cy="349200"/>
              <a:chOff x="2890800" y="4506840"/>
              <a:chExt cx="186840" cy="349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96532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9080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96532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96532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95236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92860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1276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292392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89368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95056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297936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3059280" y="4506840"/>
              <a:ext cx="186840" cy="349200"/>
              <a:chOff x="3059280" y="4506840"/>
              <a:chExt cx="186840" cy="349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313380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928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3380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13380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12084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9708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8124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309240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6216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311904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314784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2927880" y="49291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043960" y="5535720"/>
            <a:ext cx="1688760" cy="560880"/>
            <a:chOff x="5043960" y="5535720"/>
            <a:chExt cx="1688760" cy="560880"/>
          </a:xfrm>
        </p:grpSpPr>
        <p:sp>
          <p:nvSpPr>
            <p:cNvPr id="1035" name=""/>
            <p:cNvSpPr/>
            <p:nvPr/>
          </p:nvSpPr>
          <p:spPr>
            <a:xfrm>
              <a:off x="504396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5396040" y="5668920"/>
              <a:ext cx="110880" cy="371520"/>
              <a:chOff x="5396040" y="5668920"/>
              <a:chExt cx="110880" cy="371520"/>
            </a:xfrm>
          </p:grpSpPr>
          <p:sp>
            <p:nvSpPr>
              <p:cNvPr id="1037" name=""/>
              <p:cNvSpPr/>
              <p:nvPr/>
            </p:nvSpPr>
            <p:spPr>
              <a:xfrm>
                <a:off x="5396040" y="566892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96040" y="5743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96040" y="58546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96040" y="589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96040" y="592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96040" y="5966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96040" y="60033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479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45148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42376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5394240" y="553572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5897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640" y="5884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264040" y="5516640"/>
            <a:ext cx="1882440" cy="708120"/>
            <a:chOff x="2264040" y="5516640"/>
            <a:chExt cx="1882440" cy="708120"/>
          </a:xfrm>
        </p:grpSpPr>
        <p:grpSp>
          <p:nvGrpSpPr>
            <p:cNvPr id="1051" name=""/>
            <p:cNvGrpSpPr/>
            <p:nvPr/>
          </p:nvGrpSpPr>
          <p:grpSpPr>
            <a:xfrm>
              <a:off x="2639880" y="5665680"/>
              <a:ext cx="111240" cy="371520"/>
              <a:chOff x="2639880" y="5665680"/>
              <a:chExt cx="111240" cy="371520"/>
            </a:xfrm>
          </p:grpSpPr>
          <p:sp>
            <p:nvSpPr>
              <p:cNvPr id="1052" name=""/>
              <p:cNvSpPr/>
              <p:nvPr/>
            </p:nvSpPr>
            <p:spPr>
              <a:xfrm>
                <a:off x="2639880" y="566568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639880" y="5739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39880" y="5851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639880" y="58885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639880" y="59256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639880" y="59630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639880" y="6000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7234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69532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6676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>
              <a:off x="2865600" y="5676840"/>
              <a:ext cx="1280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64040" y="5786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29080" y="5516640"/>
              <a:ext cx="12996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64480" y="5981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7101000" y="4430880"/>
            <a:ext cx="1771560" cy="654480"/>
            <a:chOff x="7101000" y="4430880"/>
            <a:chExt cx="1771560" cy="654480"/>
          </a:xfrm>
        </p:grpSpPr>
        <p:sp>
          <p:nvSpPr>
            <p:cNvPr id="1067" name=""/>
            <p:cNvSpPr/>
            <p:nvPr/>
          </p:nvSpPr>
          <p:spPr>
            <a:xfrm>
              <a:off x="7101000" y="443088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538120" y="4511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8375760" y="4441680"/>
              <a:ext cx="108000" cy="370800"/>
              <a:chOff x="8375760" y="4441680"/>
              <a:chExt cx="108000" cy="370800"/>
            </a:xfrm>
          </p:grpSpPr>
          <p:sp>
            <p:nvSpPr>
              <p:cNvPr id="1070" name=""/>
              <p:cNvSpPr/>
              <p:nvPr/>
            </p:nvSpPr>
            <p:spPr>
              <a:xfrm>
                <a:off x="8375760" y="4441680"/>
                <a:ext cx="108000" cy="37080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0800"/>
                  <a:gd name="textAreaBottom" fmla="*/ 365760 h 370800"/>
                </a:gdLst>
                <a:ahLst/>
                <a:rect l="textAreaLeft" t="textAreaTop" r="textAreaRight" b="textAreaBottom"/>
                <a:pathLst>
                  <a:path w="21600" h="73985">
                    <a:moveTo>
                      <a:pt x="3600" y="0"/>
                    </a:moveTo>
                    <a:arcTo wR="3600" hR="3600" stAng="16200000" swAng="-5400000"/>
                    <a:lnTo>
                      <a:pt x="0" y="70385"/>
                    </a:lnTo>
                    <a:arcTo wR="3600" hR="3600" stAng="10800000" swAng="-5400000"/>
                    <a:lnTo>
                      <a:pt x="18000" y="73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75760" y="4515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75760" y="46270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375760" y="4664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375760" y="4701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75760" y="4738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375760" y="47754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456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429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402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7938000" y="4947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7423200" y="3429000"/>
            <a:ext cx="1396800" cy="517680"/>
            <a:chOff x="7423200" y="3429000"/>
            <a:chExt cx="1396800" cy="517680"/>
          </a:xfrm>
        </p:grpSpPr>
        <p:grpSp>
          <p:nvGrpSpPr>
            <p:cNvPr id="1082" name=""/>
            <p:cNvGrpSpPr/>
            <p:nvPr/>
          </p:nvGrpSpPr>
          <p:grpSpPr>
            <a:xfrm>
              <a:off x="7683480" y="3481560"/>
              <a:ext cx="1136520" cy="465120"/>
              <a:chOff x="7683480" y="3481560"/>
              <a:chExt cx="1136520" cy="46512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7683480" y="3571920"/>
                <a:ext cx="186840" cy="349200"/>
                <a:chOff x="7683480" y="3571920"/>
                <a:chExt cx="186840" cy="3492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7758000" y="3571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683480" y="377964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758000" y="3641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58000" y="3746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745040" y="37987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721280" y="3833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705440" y="386856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7716600" y="37987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686360" y="3897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7743240" y="3800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7773480" y="37987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5" name=""/>
              <p:cNvSpPr/>
              <p:nvPr/>
            </p:nvSpPr>
            <p:spPr>
              <a:xfrm>
                <a:off x="7986960" y="34815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29360" y="364212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7746840" y="34290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23200" y="3692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2624040" y="3357720"/>
            <a:ext cx="1351080" cy="700200"/>
            <a:chOff x="2624040" y="3357720"/>
            <a:chExt cx="1351080" cy="700200"/>
          </a:xfrm>
        </p:grpSpPr>
        <p:grpSp>
          <p:nvGrpSpPr>
            <p:cNvPr id="1100" name=""/>
            <p:cNvGrpSpPr/>
            <p:nvPr/>
          </p:nvGrpSpPr>
          <p:grpSpPr>
            <a:xfrm>
              <a:off x="2624040" y="3357720"/>
              <a:ext cx="1351080" cy="700200"/>
              <a:chOff x="2624040" y="3357720"/>
              <a:chExt cx="1351080" cy="70020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3030480" y="3383280"/>
                <a:ext cx="109440" cy="371520"/>
                <a:chOff x="3030480" y="3383280"/>
                <a:chExt cx="109440" cy="3715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3030480" y="338328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030480" y="34581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030480" y="3569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030480" y="36057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030480" y="36439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030480" y="36802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3030480" y="37184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112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085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05748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624040" y="3357720"/>
                <a:ext cx="1351080" cy="700200"/>
                <a:chOff x="2624040" y="3357720"/>
                <a:chExt cx="1351080" cy="70020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3203640" y="335772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624040" y="347688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5" name=""/>
            <p:cNvSpPr/>
            <p:nvPr/>
          </p:nvSpPr>
          <p:spPr>
            <a:xfrm>
              <a:off x="2985480" y="381024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6200000">
            <a:off x="-2255400" y="3918600"/>
            <a:ext cx="46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6875640" y="2781360"/>
            <a:ext cx="1322280" cy="600120"/>
            <a:chOff x="6875640" y="2781360"/>
            <a:chExt cx="1322280" cy="600120"/>
          </a:xfrm>
        </p:grpSpPr>
        <p:sp>
          <p:nvSpPr>
            <p:cNvPr id="1118" name=""/>
            <p:cNvSpPr/>
            <p:nvPr/>
          </p:nvSpPr>
          <p:spPr>
            <a:xfrm>
              <a:off x="6875640" y="3114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7108920" y="2781360"/>
              <a:ext cx="1089000" cy="600120"/>
              <a:chOff x="7108920" y="2781360"/>
              <a:chExt cx="1089000" cy="600120"/>
            </a:xfrm>
          </p:grpSpPr>
          <p:sp>
            <p:nvSpPr>
              <p:cNvPr id="1120" name=""/>
              <p:cNvSpPr/>
              <p:nvPr/>
            </p:nvSpPr>
            <p:spPr>
              <a:xfrm>
                <a:off x="7358040" y="294948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385040" y="278136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2" name=""/>
              <p:cNvGrpSpPr/>
              <p:nvPr/>
            </p:nvGrpSpPr>
            <p:grpSpPr>
              <a:xfrm>
                <a:off x="7108920" y="2982960"/>
                <a:ext cx="186840" cy="349200"/>
                <a:chOff x="7108920" y="2982960"/>
                <a:chExt cx="186840" cy="3492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7183440" y="298296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108920" y="319104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183440" y="305280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183440" y="31575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170480" y="32101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146720" y="32450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130880" y="32799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7142040" y="32101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111800" y="33084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>
                  <a:off x="7168680" y="321156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H="1">
                  <a:off x="7197480" y="321012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"/>
              <p:cNvSpPr/>
              <p:nvPr/>
            </p:nvSpPr>
            <p:spPr>
              <a:xfrm>
                <a:off x="7172280" y="283032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5" name=""/>
          <p:cNvGrpSpPr/>
          <p:nvPr/>
        </p:nvGrpSpPr>
        <p:grpSpPr>
          <a:xfrm>
            <a:off x="7256520" y="3994200"/>
            <a:ext cx="2068200" cy="349200"/>
            <a:chOff x="7256520" y="3994200"/>
            <a:chExt cx="2068200" cy="349200"/>
          </a:xfrm>
        </p:grpSpPr>
        <p:sp>
          <p:nvSpPr>
            <p:cNvPr id="1136" name=""/>
            <p:cNvSpPr/>
            <p:nvPr/>
          </p:nvSpPr>
          <p:spPr>
            <a:xfrm>
              <a:off x="7956360" y="40640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56520" y="413064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7688160" y="3994200"/>
              <a:ext cx="186840" cy="349200"/>
              <a:chOff x="7688160" y="3994200"/>
              <a:chExt cx="186840" cy="349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7762680" y="399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88160" y="420192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762680" y="406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762680" y="416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749720" y="4221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725960" y="4255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710120" y="429084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7721280" y="4221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91040" y="431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7747920" y="422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7778160" y="42210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"/>
          <p:cNvGrpSpPr/>
          <p:nvPr/>
        </p:nvGrpSpPr>
        <p:grpSpPr>
          <a:xfrm>
            <a:off x="3741840" y="1496880"/>
            <a:ext cx="1512720" cy="936360"/>
            <a:chOff x="3741840" y="1496880"/>
            <a:chExt cx="1512720" cy="936360"/>
          </a:xfrm>
        </p:grpSpPr>
        <p:sp>
          <p:nvSpPr>
            <p:cNvPr id="1151" name=""/>
            <p:cNvSpPr/>
            <p:nvPr/>
          </p:nvSpPr>
          <p:spPr>
            <a:xfrm>
              <a:off x="3741840" y="1496880"/>
              <a:ext cx="151272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" name=""/>
            <p:cNvGrpSpPr/>
            <p:nvPr/>
          </p:nvGrpSpPr>
          <p:grpSpPr>
            <a:xfrm>
              <a:off x="4757760" y="1882440"/>
              <a:ext cx="427320" cy="139680"/>
              <a:chOff x="4757760" y="1882440"/>
              <a:chExt cx="427320" cy="139680"/>
            </a:xfrm>
          </p:grpSpPr>
          <p:sp>
            <p:nvSpPr>
              <p:cNvPr id="1153" name=""/>
              <p:cNvSpPr/>
              <p:nvPr/>
            </p:nvSpPr>
            <p:spPr>
              <a:xfrm>
                <a:off x="4757760" y="188244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922280" y="1900080"/>
                <a:ext cx="26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3781440" y="2203200"/>
              <a:ext cx="1139040" cy="193680"/>
              <a:chOff x="3781440" y="2203200"/>
              <a:chExt cx="1139040" cy="193680"/>
            </a:xfrm>
          </p:grpSpPr>
          <p:sp>
            <p:nvSpPr>
              <p:cNvPr id="1156" name=""/>
              <p:cNvSpPr/>
              <p:nvPr/>
            </p:nvSpPr>
            <p:spPr>
              <a:xfrm>
                <a:off x="3781440" y="22032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979440" y="22428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3816360" y="1868400"/>
              <a:ext cx="846000" cy="152640"/>
              <a:chOff x="3816360" y="1868400"/>
              <a:chExt cx="846000" cy="152640"/>
            </a:xfrm>
          </p:grpSpPr>
          <p:sp>
            <p:nvSpPr>
              <p:cNvPr id="1159" name=""/>
              <p:cNvSpPr/>
              <p:nvPr/>
            </p:nvSpPr>
            <p:spPr>
              <a:xfrm>
                <a:off x="3816360" y="187632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986640" y="186840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4471920" y="1537920"/>
              <a:ext cx="280440" cy="291960"/>
              <a:chOff x="4471920" y="1537920"/>
              <a:chExt cx="280440" cy="29196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4471920" y="1537920"/>
                <a:ext cx="78120" cy="291960"/>
                <a:chOff x="4471920" y="1537920"/>
                <a:chExt cx="78120" cy="291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4471920" y="15379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7b8e5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471920" y="15962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471920" y="1684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471920" y="17128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471920" y="17424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471920" y="17715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471920" y="18007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5306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5108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4913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3" name=""/>
              <p:cNvSpPr/>
              <p:nvPr/>
            </p:nvSpPr>
            <p:spPr>
              <a:xfrm>
                <a:off x="4619160" y="16329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4762440" y="1537920"/>
              <a:ext cx="375480" cy="291960"/>
              <a:chOff x="4762440" y="1537920"/>
              <a:chExt cx="375480" cy="291960"/>
            </a:xfrm>
          </p:grpSpPr>
          <p:grpSp>
            <p:nvGrpSpPr>
              <p:cNvPr id="1175" name=""/>
              <p:cNvGrpSpPr/>
              <p:nvPr/>
            </p:nvGrpSpPr>
            <p:grpSpPr>
              <a:xfrm>
                <a:off x="4762440" y="1537920"/>
                <a:ext cx="77040" cy="291960"/>
                <a:chOff x="4762440" y="1537920"/>
                <a:chExt cx="77040" cy="2919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4762440" y="15379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762440" y="15962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762440" y="1684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762440" y="17128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762440" y="17424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762440" y="17715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762440" y="18007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82004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8009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78152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"/>
              <p:cNvSpPr/>
              <p:nvPr/>
            </p:nvSpPr>
            <p:spPr>
              <a:xfrm>
                <a:off x="4893480" y="16329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3789720" y="15537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986640" y="206496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APA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28960" y="2052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563040" y="3716280"/>
            <a:ext cx="1762200" cy="718200"/>
            <a:chOff x="563040" y="3716280"/>
            <a:chExt cx="1762200" cy="718200"/>
          </a:xfrm>
        </p:grpSpPr>
        <p:grpSp>
          <p:nvGrpSpPr>
            <p:cNvPr id="1191" name=""/>
            <p:cNvGrpSpPr/>
            <p:nvPr/>
          </p:nvGrpSpPr>
          <p:grpSpPr>
            <a:xfrm>
              <a:off x="563040" y="3716280"/>
              <a:ext cx="1762200" cy="718200"/>
              <a:chOff x="563040" y="3716280"/>
              <a:chExt cx="1762200" cy="718200"/>
            </a:xfrm>
          </p:grpSpPr>
          <p:sp>
            <p:nvSpPr>
              <p:cNvPr id="1192" name=""/>
              <p:cNvSpPr/>
              <p:nvPr/>
            </p:nvSpPr>
            <p:spPr>
              <a:xfrm>
                <a:off x="1241280" y="3825720"/>
                <a:ext cx="223920" cy="216000"/>
              </a:xfrm>
              <a:prstGeom prst="flowChartSort">
                <a:avLst/>
              </a:pr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826920" y="3825720"/>
                <a:ext cx="1498320" cy="608760"/>
                <a:chOff x="826920" y="3825720"/>
                <a:chExt cx="1498320" cy="6087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503000" y="3825720"/>
                  <a:ext cx="822240" cy="60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iemens Sans"/>
                    </a:rPr>
                    <a:t>CHN HWR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Siemens Sans"/>
                    </a:rPr>
                    <a:t>(TBD) (PPM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26920" y="3838320"/>
                  <a:ext cx="4777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6" name=""/>
              <p:cNvSpPr/>
              <p:nvPr/>
            </p:nvSpPr>
            <p:spPr>
              <a:xfrm>
                <a:off x="563040" y="371628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Siemens Sans"/>
                  </a:rPr>
                  <a:t>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1103400" y="394488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967320" y="4292640"/>
            <a:ext cx="1470960" cy="576360"/>
            <a:chOff x="967320" y="4292640"/>
            <a:chExt cx="1470960" cy="576360"/>
          </a:xfrm>
        </p:grpSpPr>
        <p:grpSp>
          <p:nvGrpSpPr>
            <p:cNvPr id="1199" name=""/>
            <p:cNvGrpSpPr/>
            <p:nvPr/>
          </p:nvGrpSpPr>
          <p:grpSpPr>
            <a:xfrm>
              <a:off x="967320" y="4292640"/>
              <a:ext cx="1470960" cy="576360"/>
              <a:chOff x="967320" y="4292640"/>
              <a:chExt cx="1470960" cy="57636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967320" y="4292640"/>
                <a:ext cx="1470960" cy="576360"/>
                <a:chOff x="967320" y="4292640"/>
                <a:chExt cx="1470960" cy="57636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967320" y="429264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4800" y="4321080"/>
                  <a:ext cx="933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Flamin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Stylish&amp;smal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affordable sli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3" name=""/>
                <p:cNvGrpSpPr/>
                <p:nvPr/>
              </p:nvGrpSpPr>
              <p:grpSpPr>
                <a:xfrm>
                  <a:off x="1185840" y="4357800"/>
                  <a:ext cx="303120" cy="204840"/>
                  <a:chOff x="1185840" y="4357800"/>
                  <a:chExt cx="303120" cy="20484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1185840" y="4462560"/>
                    <a:ext cx="236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1269720" y="44769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1238040" y="4500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1217520" y="4526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 flipH="1">
                    <a:off x="123156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1190520" y="4545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H="1">
                    <a:off x="1266480" y="4478400"/>
                    <a:ext cx="76320" cy="6696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 flipH="1">
                    <a:off x="130788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1252440" y="4357800"/>
                    <a:ext cx="2365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1326960" y="43894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1284120" y="4434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5" name=""/>
              <p:cNvSpPr/>
              <p:nvPr/>
            </p:nvSpPr>
            <p:spPr>
              <a:xfrm>
                <a:off x="1134000" y="4619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6" name=""/>
            <p:cNvSpPr/>
            <p:nvPr/>
          </p:nvSpPr>
          <p:spPr>
            <a:xfrm>
              <a:off x="1008000" y="4464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597600" y="3002040"/>
            <a:ext cx="2206800" cy="426600"/>
            <a:chOff x="597600" y="3002040"/>
            <a:chExt cx="2206800" cy="426600"/>
          </a:xfrm>
        </p:grpSpPr>
        <p:sp>
          <p:nvSpPr>
            <p:cNvPr id="1218" name=""/>
            <p:cNvSpPr/>
            <p:nvPr/>
          </p:nvSpPr>
          <p:spPr>
            <a:xfrm>
              <a:off x="597600" y="300204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Siemens Sans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831240" y="3065400"/>
              <a:ext cx="1973160" cy="363240"/>
              <a:chOff x="831240" y="3065400"/>
              <a:chExt cx="1973160" cy="36324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831240" y="3065400"/>
                <a:ext cx="1973160" cy="304560"/>
                <a:chOff x="831240" y="3065400"/>
                <a:chExt cx="1973160" cy="30456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1517040" y="3065400"/>
                  <a:ext cx="1287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Electra M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TBD) (PPM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31240" y="31305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216800" y="3079440"/>
                <a:ext cx="187560" cy="349200"/>
                <a:chOff x="1216800" y="3079440"/>
                <a:chExt cx="187560" cy="34920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291680" y="3079440"/>
                  <a:ext cx="112680" cy="209520"/>
                </a:xfrm>
                <a:custGeom>
                  <a:avLst/>
                  <a:gdLst>
                    <a:gd name="textAreaLeft" fmla="*/ 5400 w 112680"/>
                    <a:gd name="textAreaRight" fmla="*/ 107280 w 11268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104">
                      <a:moveTo>
                        <a:pt x="3600" y="0"/>
                      </a:moveTo>
                      <a:arcTo wR="3600" hR="3600" stAng="16200000" swAng="-5400000"/>
                      <a:lnTo>
                        <a:pt x="0" y="36504"/>
                      </a:lnTo>
                      <a:arcTo wR="3600" hR="3600" stAng="10800000" swAng="-5400000"/>
                      <a:lnTo>
                        <a:pt x="18000" y="4010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216800" y="3287520"/>
                  <a:ext cx="17460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1291680" y="3149280"/>
                  <a:ext cx="1108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1291680" y="325404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1278720" y="330660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254960" y="3341520"/>
                  <a:ext cx="1144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239120" y="3376440"/>
                  <a:ext cx="1144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1249920" y="3306600"/>
                  <a:ext cx="5724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1220040" y="340488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1277280" y="3308040"/>
                  <a:ext cx="5544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>
                  <a:off x="1305360" y="3306600"/>
                  <a:ext cx="5724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5" name=""/>
            <p:cNvSpPr/>
            <p:nvPr/>
          </p:nvSpPr>
          <p:spPr>
            <a:xfrm>
              <a:off x="1041840" y="3284640"/>
              <a:ext cx="10836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2798640" y="437508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475000" y="553392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4280400" y="3979800"/>
            <a:ext cx="2452320" cy="675720"/>
            <a:chOff x="4280400" y="3979800"/>
            <a:chExt cx="2452320" cy="675720"/>
          </a:xfrm>
        </p:grpSpPr>
        <p:grpSp>
          <p:nvGrpSpPr>
            <p:cNvPr id="1239" name=""/>
            <p:cNvGrpSpPr/>
            <p:nvPr/>
          </p:nvGrpSpPr>
          <p:grpSpPr>
            <a:xfrm>
              <a:off x="4280400" y="3979800"/>
              <a:ext cx="2452320" cy="675720"/>
              <a:chOff x="4280400" y="3979800"/>
              <a:chExt cx="2452320" cy="67572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4633920" y="4119480"/>
                <a:ext cx="186840" cy="349200"/>
                <a:chOff x="4633920" y="4119480"/>
                <a:chExt cx="186840" cy="34920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4708440" y="411948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633920" y="432756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08440" y="418932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708440" y="4294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4695480" y="4346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671720" y="43815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655880" y="44164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H="1">
                  <a:off x="4667040" y="434664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636800" y="44449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4693680" y="434808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>
                  <a:off x="4722480" y="434664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4919760" y="4048200"/>
                <a:ext cx="1812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Nightingale</a:t>
                </a: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Adonis II) (2nd ID Chin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Young  Music / Stereo loudsp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280400" y="42069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4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778280" y="39798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583520" y="45180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614840" y="399240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4443480" y="4005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5059800" y="4594320"/>
            <a:ext cx="1488240" cy="660600"/>
            <a:chOff x="5059800" y="4594320"/>
            <a:chExt cx="1488240" cy="660600"/>
          </a:xfrm>
        </p:grpSpPr>
        <p:grpSp>
          <p:nvGrpSpPr>
            <p:cNvPr id="1259" name=""/>
            <p:cNvGrpSpPr/>
            <p:nvPr/>
          </p:nvGrpSpPr>
          <p:grpSpPr>
            <a:xfrm>
              <a:off x="5059800" y="4594320"/>
              <a:ext cx="1488240" cy="660600"/>
              <a:chOff x="5059800" y="4594320"/>
              <a:chExt cx="1488240" cy="660600"/>
            </a:xfrm>
          </p:grpSpPr>
          <p:sp>
            <p:nvSpPr>
              <p:cNvPr id="1260" name=""/>
              <p:cNvSpPr/>
              <p:nvPr/>
            </p:nvSpPr>
            <p:spPr>
              <a:xfrm>
                <a:off x="5639400" y="4707000"/>
                <a:ext cx="90864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Bramb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Herme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Basic im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59800" y="46530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2" name=""/>
              <p:cNvGrpSpPr/>
              <p:nvPr/>
            </p:nvGrpSpPr>
            <p:grpSpPr>
              <a:xfrm>
                <a:off x="5438520" y="4651200"/>
                <a:ext cx="109800" cy="371520"/>
                <a:chOff x="5438520" y="4651200"/>
                <a:chExt cx="109800" cy="3715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5438520" y="4651200"/>
                  <a:ext cx="109800" cy="371520"/>
                </a:xfrm>
                <a:custGeom>
                  <a:avLst/>
                  <a:gdLst>
                    <a:gd name="textAreaLeft" fmla="*/ 5040 w 109800"/>
                    <a:gd name="textAreaRight" fmla="*/ 104760 w 10980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2918">
                      <a:moveTo>
                        <a:pt x="3600" y="0"/>
                      </a:moveTo>
                      <a:arcTo wR="3600" hR="3600" stAng="16200000" swAng="-5400000"/>
                      <a:lnTo>
                        <a:pt x="0" y="69318"/>
                      </a:lnTo>
                      <a:arcTo wR="3600" hR="3600" stAng="10800000" swAng="-5400000"/>
                      <a:lnTo>
                        <a:pt x="18000" y="729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438520" y="47253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438520" y="48369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438520" y="487404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438520" y="491112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438520" y="49485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438520" y="498564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52096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49324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46588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5809680" y="4594320"/>
                <a:ext cx="12996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137200" y="48052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5" name=""/>
            <p:cNvSpPr/>
            <p:nvPr/>
          </p:nvSpPr>
          <p:spPr>
            <a:xfrm>
              <a:off x="5642280" y="4595760"/>
              <a:ext cx="10692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7380360" y="2039760"/>
            <a:ext cx="1623960" cy="401760"/>
            <a:chOff x="7380360" y="2039760"/>
            <a:chExt cx="1623960" cy="401760"/>
          </a:xfrm>
        </p:grpSpPr>
        <p:grpSp>
          <p:nvGrpSpPr>
            <p:cNvPr id="1277" name=""/>
            <p:cNvGrpSpPr/>
            <p:nvPr/>
          </p:nvGrpSpPr>
          <p:grpSpPr>
            <a:xfrm>
              <a:off x="7444080" y="2039760"/>
              <a:ext cx="1560240" cy="401760"/>
              <a:chOff x="7444080" y="2039760"/>
              <a:chExt cx="1560240" cy="401760"/>
            </a:xfrm>
          </p:grpSpPr>
          <p:sp>
            <p:nvSpPr>
              <p:cNvPr id="1278" name=""/>
              <p:cNvSpPr/>
              <p:nvPr/>
            </p:nvSpPr>
            <p:spPr>
              <a:xfrm>
                <a:off x="7740720" y="2101680"/>
                <a:ext cx="1263600" cy="285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iemens Sans"/>
                  </a:rPr>
                  <a:t>Hummingbi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(Hydra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High-end sty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44080" y="22888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0" name=""/>
              <p:cNvGrpSpPr/>
              <p:nvPr/>
            </p:nvGrpSpPr>
            <p:grpSpPr>
              <a:xfrm>
                <a:off x="7507440" y="2039760"/>
                <a:ext cx="303120" cy="204840"/>
                <a:chOff x="7507440" y="2039760"/>
                <a:chExt cx="303120" cy="20484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7507440" y="2144520"/>
                  <a:ext cx="236520" cy="1000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591320" y="2158920"/>
                  <a:ext cx="1526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7559640" y="218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539120" y="220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755316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7512120" y="222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7588080" y="2160360"/>
                  <a:ext cx="76320" cy="6696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762948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7574040" y="2039760"/>
                  <a:ext cx="236520" cy="12384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7648560" y="20714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7605720" y="21160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2" name=""/>
              <p:cNvSpPr/>
              <p:nvPr/>
            </p:nvSpPr>
            <p:spPr>
              <a:xfrm>
                <a:off x="7845840" y="21906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8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7380360" y="206064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4727520" y="2227320"/>
            <a:ext cx="2428920" cy="551520"/>
            <a:chOff x="4727520" y="2227320"/>
            <a:chExt cx="2428920" cy="551520"/>
          </a:xfrm>
        </p:grpSpPr>
        <p:sp>
          <p:nvSpPr>
            <p:cNvPr id="1295" name=""/>
            <p:cNvSpPr/>
            <p:nvPr/>
          </p:nvSpPr>
          <p:spPr>
            <a:xfrm>
              <a:off x="6480000" y="222732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727520" y="235260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78720" y="22892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90000" y="2635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6386400" y="2349360"/>
              <a:ext cx="303480" cy="204840"/>
              <a:chOff x="6386400" y="2349360"/>
              <a:chExt cx="303480" cy="204840"/>
            </a:xfrm>
          </p:grpSpPr>
          <p:sp>
            <p:nvSpPr>
              <p:cNvPr id="1300" name=""/>
              <p:cNvSpPr/>
              <p:nvPr/>
            </p:nvSpPr>
            <p:spPr>
              <a:xfrm>
                <a:off x="6386400" y="24541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470640" y="24685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438960" y="2492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251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643248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391440" y="25369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6467400" y="24703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650880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453360" y="23493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527880" y="23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485040" y="24256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1" name=""/>
          <p:cNvGrpSpPr/>
          <p:nvPr/>
        </p:nvGrpSpPr>
        <p:grpSpPr>
          <a:xfrm>
            <a:off x="4795920" y="1773360"/>
            <a:ext cx="2347920" cy="426240"/>
            <a:chOff x="4795920" y="1773360"/>
            <a:chExt cx="2347920" cy="426240"/>
          </a:xfrm>
        </p:grpSpPr>
        <p:sp>
          <p:nvSpPr>
            <p:cNvPr id="1312" name=""/>
            <p:cNvSpPr/>
            <p:nvPr/>
          </p:nvSpPr>
          <p:spPr>
            <a:xfrm>
              <a:off x="4795920" y="177336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65760" y="1836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06080" y="2008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6381720" y="1835280"/>
              <a:ext cx="302760" cy="204120"/>
              <a:chOff x="6381720" y="1835280"/>
              <a:chExt cx="302760" cy="204120"/>
            </a:xfrm>
          </p:grpSpPr>
          <p:sp>
            <p:nvSpPr>
              <p:cNvPr id="1316" name=""/>
              <p:cNvSpPr/>
              <p:nvPr/>
            </p:nvSpPr>
            <p:spPr>
              <a:xfrm>
                <a:off x="6381720" y="1939680"/>
                <a:ext cx="23616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465600" y="19540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433920" y="19778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413400" y="200340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642708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86400" y="2022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6462000" y="19558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650340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48320" y="1835280"/>
                <a:ext cx="23616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522840" y="18669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80000" y="19112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7" name=""/>
          <p:cNvGrpSpPr/>
          <p:nvPr/>
        </p:nvGrpSpPr>
        <p:grpSpPr>
          <a:xfrm>
            <a:off x="3843360" y="2682720"/>
            <a:ext cx="2124000" cy="674280"/>
            <a:chOff x="3843360" y="2682720"/>
            <a:chExt cx="2124000" cy="674280"/>
          </a:xfrm>
        </p:grpSpPr>
        <p:sp>
          <p:nvSpPr>
            <p:cNvPr id="1328" name=""/>
            <p:cNvSpPr/>
            <p:nvPr/>
          </p:nvSpPr>
          <p:spPr>
            <a:xfrm>
              <a:off x="3843360" y="2860560"/>
              <a:ext cx="1636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89640" y="26827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78560" y="3219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1" name=""/>
            <p:cNvGrpSpPr/>
            <p:nvPr/>
          </p:nvGrpSpPr>
          <p:grpSpPr>
            <a:xfrm>
              <a:off x="5613480" y="2817720"/>
              <a:ext cx="109440" cy="371520"/>
              <a:chOff x="5613480" y="2817720"/>
              <a:chExt cx="109440" cy="371520"/>
            </a:xfrm>
          </p:grpSpPr>
          <p:sp>
            <p:nvSpPr>
              <p:cNvPr id="1332" name=""/>
              <p:cNvSpPr/>
              <p:nvPr/>
            </p:nvSpPr>
            <p:spPr>
              <a:xfrm>
                <a:off x="5613480" y="28177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613480" y="2891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613480" y="3003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613480" y="3040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613480" y="30776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613480" y="31150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613480" y="3152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69556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66820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64084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2" name=""/>
          <p:cNvGrpSpPr/>
          <p:nvPr/>
        </p:nvGrpSpPr>
        <p:grpSpPr>
          <a:xfrm>
            <a:off x="147600" y="4025880"/>
            <a:ext cx="7953120" cy="2071440"/>
            <a:chOff x="147600" y="4025880"/>
            <a:chExt cx="7953120" cy="2071440"/>
          </a:xfrm>
        </p:grpSpPr>
        <p:grpSp>
          <p:nvGrpSpPr>
            <p:cNvPr id="1343" name=""/>
            <p:cNvGrpSpPr/>
            <p:nvPr/>
          </p:nvGrpSpPr>
          <p:grpSpPr>
            <a:xfrm>
              <a:off x="3418920" y="5265720"/>
              <a:ext cx="1368360" cy="489240"/>
              <a:chOff x="3418920" y="5265720"/>
              <a:chExt cx="1368360" cy="48924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3418920" y="5265720"/>
                <a:ext cx="1368360" cy="489240"/>
                <a:chOff x="3418920" y="5265720"/>
                <a:chExt cx="1368360" cy="489240"/>
              </a:xfrm>
            </p:grpSpPr>
            <p:grpSp>
              <p:nvGrpSpPr>
                <p:cNvPr id="1345" name=""/>
                <p:cNvGrpSpPr/>
                <p:nvPr/>
              </p:nvGrpSpPr>
              <p:grpSpPr>
                <a:xfrm>
                  <a:off x="3418920" y="5364000"/>
                  <a:ext cx="1368360" cy="390960"/>
                  <a:chOff x="3418920" y="5364000"/>
                  <a:chExt cx="1368360" cy="39096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418920" y="5572080"/>
                    <a:ext cx="1368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cc0000"/>
                        </a:solidFill>
                        <a:latin typeface="Siemens Sans"/>
                      </a:rPr>
                      <a:t>Flamingo DTC</a:t>
                    </a:r>
                    <a:r>
                      <a:rPr b="1" i="1" lang="de-DE" sz="1200" spc="-1" strike="noStrike">
                        <a:solidFill>
                          <a:srgbClr val="cc0000"/>
                        </a:solidFill>
                        <a:latin typeface="Siemens Sans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7" name=""/>
                  <p:cNvGrpSpPr/>
                  <p:nvPr/>
                </p:nvGrpSpPr>
                <p:grpSpPr>
                  <a:xfrm>
                    <a:off x="3907800" y="5373720"/>
                    <a:ext cx="303120" cy="204840"/>
                    <a:chOff x="3907800" y="5373720"/>
                    <a:chExt cx="303120" cy="204840"/>
                  </a:xfrm>
                </p:grpSpPr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3907800" y="5478480"/>
                      <a:ext cx="2365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95">
                          <a:moveTo>
                            <a:pt x="126" y="3"/>
                          </a:moveTo>
                          <a:lnTo>
                            <a:pt x="294" y="0"/>
                          </a:lnTo>
                          <a:lnTo>
                            <a:pt x="297" y="27"/>
                          </a:lnTo>
                          <a:lnTo>
                            <a:pt x="174" y="195"/>
                          </a:lnTo>
                          <a:lnTo>
                            <a:pt x="6" y="192"/>
                          </a:lnTo>
                          <a:lnTo>
                            <a:pt x="0" y="174"/>
                          </a:lnTo>
                          <a:lnTo>
                            <a:pt x="126" y="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dddddd"/>
                      </a:solidFill>
                      <a:round/>
                    </a:ln>
                    <a:effectLst>
                      <a:outerShdw dist="36147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3991680" y="549288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3960000" y="55166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>
                      <a:off x="3939480" y="55422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2" name=""/>
                    <p:cNvSpPr/>
                    <p:nvPr/>
                  </p:nvSpPr>
                  <p:spPr>
                    <a:xfrm flipH="1">
                      <a:off x="3953520" y="5492880"/>
                      <a:ext cx="76320" cy="6660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>
                      <a:off x="3912480" y="556128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flipH="1">
                      <a:off x="3988440" y="5494320"/>
                      <a:ext cx="76320" cy="6696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5" name=""/>
                    <p:cNvSpPr/>
                    <p:nvPr/>
                  </p:nvSpPr>
                  <p:spPr>
                    <a:xfrm flipH="1">
                      <a:off x="4029840" y="5492880"/>
                      <a:ext cx="76320" cy="6660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>
                      <a:off x="3974400" y="5373720"/>
                      <a:ext cx="23652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95">
                          <a:moveTo>
                            <a:pt x="126" y="3"/>
                          </a:moveTo>
                          <a:lnTo>
                            <a:pt x="294" y="0"/>
                          </a:lnTo>
                          <a:lnTo>
                            <a:pt x="297" y="27"/>
                          </a:lnTo>
                          <a:lnTo>
                            <a:pt x="174" y="195"/>
                          </a:lnTo>
                          <a:lnTo>
                            <a:pt x="6" y="192"/>
                          </a:lnTo>
                          <a:lnTo>
                            <a:pt x="0" y="174"/>
                          </a:lnTo>
                          <a:lnTo>
                            <a:pt x="126" y="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dddddd"/>
                      </a:solidFill>
                      <a:round/>
                    </a:ln>
                    <a:effectLst>
                      <a:outerShdw dist="36147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>
                      <a:off x="4048920" y="54054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4006080" y="54500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9" name=""/>
                  <p:cNvSpPr/>
                  <p:nvPr/>
                </p:nvSpPr>
                <p:spPr>
                  <a:xfrm>
                    <a:off x="3644280" y="5364000"/>
                    <a:ext cx="8888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03/0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0" name=""/>
                <p:cNvSpPr/>
                <p:nvPr/>
              </p:nvSpPr>
              <p:spPr>
                <a:xfrm>
                  <a:off x="3912480" y="5265720"/>
                  <a:ext cx="108000" cy="1080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4202640" y="544500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79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147600" y="4025880"/>
              <a:ext cx="7953120" cy="2071440"/>
              <a:chOff x="147600" y="4025880"/>
              <a:chExt cx="7953120" cy="207144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1943280" y="4025880"/>
                <a:ext cx="1653840" cy="406440"/>
                <a:chOff x="1943280" y="4025880"/>
                <a:chExt cx="1653840" cy="406440"/>
              </a:xfrm>
            </p:grpSpPr>
            <p:grpSp>
              <p:nvGrpSpPr>
                <p:cNvPr id="1364" name=""/>
                <p:cNvGrpSpPr/>
                <p:nvPr/>
              </p:nvGrpSpPr>
              <p:grpSpPr>
                <a:xfrm>
                  <a:off x="1943280" y="4025880"/>
                  <a:ext cx="1653840" cy="406440"/>
                  <a:chOff x="1943280" y="4025880"/>
                  <a:chExt cx="1653840" cy="406440"/>
                </a:xfrm>
              </p:grpSpPr>
              <p:grpSp>
                <p:nvGrpSpPr>
                  <p:cNvPr id="1365" name=""/>
                  <p:cNvGrpSpPr/>
                  <p:nvPr/>
                </p:nvGrpSpPr>
                <p:grpSpPr>
                  <a:xfrm>
                    <a:off x="2050920" y="4025880"/>
                    <a:ext cx="1546200" cy="406440"/>
                    <a:chOff x="2050920" y="4025880"/>
                    <a:chExt cx="1546200" cy="406440"/>
                  </a:xfrm>
                </p:grpSpPr>
                <p:grpSp>
                  <p:nvGrpSpPr>
                    <p:cNvPr id="1366" name=""/>
                    <p:cNvGrpSpPr/>
                    <p:nvPr/>
                  </p:nvGrpSpPr>
                  <p:grpSpPr>
                    <a:xfrm>
                      <a:off x="2050920" y="4025880"/>
                      <a:ext cx="187560" cy="349200"/>
                      <a:chOff x="2050920" y="4025880"/>
                      <a:chExt cx="187560" cy="349200"/>
                    </a:xfrm>
                  </p:grpSpPr>
                  <p:sp>
                    <p:nvSpPr>
                      <p:cNvPr id="1367" name=""/>
                      <p:cNvSpPr/>
                      <p:nvPr/>
                    </p:nvSpPr>
                    <p:spPr>
                      <a:xfrm>
                        <a:off x="2125800" y="4025880"/>
                        <a:ext cx="112680" cy="209520"/>
                      </a:xfrm>
                      <a:custGeom>
                        <a:avLst/>
                        <a:gdLst>
                          <a:gd name="textAreaLeft" fmla="*/ 5400 w 112680"/>
                          <a:gd name="textAreaRight" fmla="*/ 107280 w 11268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10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504"/>
                            </a:lnTo>
                            <a:arcTo wR="3600" hR="3600" stAng="10800000" swAng="-5400000"/>
                            <a:lnTo>
                              <a:pt x="18000" y="4010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8" name=""/>
                      <p:cNvSpPr/>
                      <p:nvPr/>
                    </p:nvSpPr>
                    <p:spPr>
                      <a:xfrm>
                        <a:off x="2050920" y="4233960"/>
                        <a:ext cx="17460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"/>
                      <p:cNvSpPr/>
                      <p:nvPr/>
                    </p:nvSpPr>
                    <p:spPr>
                      <a:xfrm>
                        <a:off x="2125800" y="4095720"/>
                        <a:ext cx="110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0" name=""/>
                      <p:cNvSpPr/>
                      <p:nvPr/>
                    </p:nvSpPr>
                    <p:spPr>
                      <a:xfrm>
                        <a:off x="2125800" y="420048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1" name=""/>
                      <p:cNvSpPr/>
                      <p:nvPr/>
                    </p:nvSpPr>
                    <p:spPr>
                      <a:xfrm>
                        <a:off x="2112840" y="425304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2089080" y="428796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3" name=""/>
                      <p:cNvSpPr/>
                      <p:nvPr/>
                    </p:nvSpPr>
                    <p:spPr>
                      <a:xfrm>
                        <a:off x="2073240" y="432288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" name=""/>
                      <p:cNvSpPr/>
                      <p:nvPr/>
                    </p:nvSpPr>
                    <p:spPr>
                      <a:xfrm flipH="1">
                        <a:off x="2084040" y="4253040"/>
                        <a:ext cx="572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"/>
                      <p:cNvSpPr/>
                      <p:nvPr/>
                    </p:nvSpPr>
                    <p:spPr>
                      <a:xfrm>
                        <a:off x="2054160" y="435132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" name=""/>
                      <p:cNvSpPr/>
                      <p:nvPr/>
                    </p:nvSpPr>
                    <p:spPr>
                      <a:xfrm flipH="1">
                        <a:off x="2111400" y="4254480"/>
                        <a:ext cx="554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7" name=""/>
                      <p:cNvSpPr/>
                      <p:nvPr/>
                    </p:nvSpPr>
                    <p:spPr>
                      <a:xfrm flipH="1">
                        <a:off x="2139480" y="4253040"/>
                        <a:ext cx="5724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78" name=""/>
                    <p:cNvSpPr/>
                    <p:nvPr/>
                  </p:nvSpPr>
                  <p:spPr>
                    <a:xfrm>
                      <a:off x="2316240" y="412776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Adonis 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(TFT, MPi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9" name=""/>
                    <p:cNvSpPr/>
                    <p:nvPr/>
                  </p:nvSpPr>
                  <p:spPr>
                    <a:xfrm>
                      <a:off x="2295000" y="402588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2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0" name=""/>
                  <p:cNvSpPr/>
                  <p:nvPr/>
                </p:nvSpPr>
                <p:spPr>
                  <a:xfrm>
                    <a:off x="1943280" y="413388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1" name=""/>
                <p:cNvSpPr/>
                <p:nvPr/>
              </p:nvSpPr>
              <p:spPr>
                <a:xfrm>
                  <a:off x="2679120" y="405756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3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4161240" y="4730760"/>
                <a:ext cx="1561680" cy="655200"/>
                <a:chOff x="4161240" y="4730760"/>
                <a:chExt cx="1561680" cy="655200"/>
              </a:xfrm>
            </p:grpSpPr>
            <p:grpSp>
              <p:nvGrpSpPr>
                <p:cNvPr id="1383" name=""/>
                <p:cNvGrpSpPr/>
                <p:nvPr/>
              </p:nvGrpSpPr>
              <p:grpSpPr>
                <a:xfrm>
                  <a:off x="4418280" y="4730760"/>
                  <a:ext cx="1304640" cy="655200"/>
                  <a:chOff x="4418280" y="4730760"/>
                  <a:chExt cx="1304640" cy="655200"/>
                </a:xfrm>
              </p:grpSpPr>
              <p:grpSp>
                <p:nvGrpSpPr>
                  <p:cNvPr id="1384" name=""/>
                  <p:cNvGrpSpPr/>
                  <p:nvPr/>
                </p:nvGrpSpPr>
                <p:grpSpPr>
                  <a:xfrm>
                    <a:off x="4419720" y="4923000"/>
                    <a:ext cx="1303200" cy="462960"/>
                    <a:chOff x="4419720" y="4923000"/>
                    <a:chExt cx="1303200" cy="462960"/>
                  </a:xfrm>
                </p:grpSpPr>
                <p:grpSp>
                  <p:nvGrpSpPr>
                    <p:cNvPr id="1385" name=""/>
                    <p:cNvGrpSpPr/>
                    <p:nvPr/>
                  </p:nvGrpSpPr>
                  <p:grpSpPr>
                    <a:xfrm>
                      <a:off x="4419720" y="4923000"/>
                      <a:ext cx="110520" cy="371160"/>
                      <a:chOff x="4419720" y="4923000"/>
                      <a:chExt cx="110520" cy="371160"/>
                    </a:xfrm>
                  </p:grpSpPr>
                  <p:sp>
                    <p:nvSpPr>
                      <p:cNvPr id="1386" name=""/>
                      <p:cNvSpPr/>
                      <p:nvPr/>
                    </p:nvSpPr>
                    <p:spPr>
                      <a:xfrm>
                        <a:off x="4419720" y="4923000"/>
                        <a:ext cx="110520" cy="371160"/>
                      </a:xfrm>
                      <a:custGeom>
                        <a:avLst/>
                        <a:gdLst>
                          <a:gd name="textAreaLeft" fmla="*/ 5400 w 110520"/>
                          <a:gd name="textAreaRight" fmla="*/ 105120 w 11052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237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774"/>
                            </a:lnTo>
                            <a:arcTo wR="3600" hR="3600" stAng="10800000" swAng="-5400000"/>
                            <a:lnTo>
                              <a:pt x="18000" y="7237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/>
                      <p:nvPr/>
                    </p:nvSpPr>
                    <p:spPr>
                      <a:xfrm>
                        <a:off x="4419720" y="49971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8" name=""/>
                      <p:cNvSpPr/>
                      <p:nvPr/>
                    </p:nvSpPr>
                    <p:spPr>
                      <a:xfrm>
                        <a:off x="4419720" y="51087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9" name=""/>
                      <p:cNvSpPr/>
                      <p:nvPr/>
                    </p:nvSpPr>
                    <p:spPr>
                      <a:xfrm>
                        <a:off x="4419720" y="51454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4419720" y="51829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1" name=""/>
                      <p:cNvSpPr/>
                      <p:nvPr/>
                    </p:nvSpPr>
                    <p:spPr>
                      <a:xfrm>
                        <a:off x="4419720" y="522000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2" name=""/>
                      <p:cNvSpPr/>
                      <p:nvPr/>
                    </p:nvSpPr>
                    <p:spPr>
                      <a:xfrm>
                        <a:off x="4419720" y="52570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3" name=""/>
                      <p:cNvSpPr/>
                      <p:nvPr/>
                    </p:nvSpPr>
                    <p:spPr>
                      <a:xfrm>
                        <a:off x="450252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4" name=""/>
                      <p:cNvSpPr/>
                      <p:nvPr/>
                    </p:nvSpPr>
                    <p:spPr>
                      <a:xfrm>
                        <a:off x="447480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5" name=""/>
                      <p:cNvSpPr/>
                      <p:nvPr/>
                    </p:nvSpPr>
                    <p:spPr>
                      <a:xfrm>
                        <a:off x="444744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96" name=""/>
                    <p:cNvSpPr/>
                    <p:nvPr/>
                  </p:nvSpPr>
                  <p:spPr>
                    <a:xfrm>
                      <a:off x="4650840" y="5081400"/>
                      <a:ext cx="10720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Her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7" name=""/>
                    <p:cNvSpPr/>
                    <p:nvPr/>
                  </p:nvSpPr>
                  <p:spPr>
                    <a:xfrm>
                      <a:off x="4619520" y="492300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3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8" name=""/>
                  <p:cNvSpPr/>
                  <p:nvPr/>
                </p:nvSpPr>
                <p:spPr>
                  <a:xfrm>
                    <a:off x="4418280" y="473076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9" name=""/>
                <p:cNvSpPr/>
                <p:nvPr/>
              </p:nvSpPr>
              <p:spPr>
                <a:xfrm>
                  <a:off x="4161240" y="50608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8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1223640" y="5157720"/>
                <a:ext cx="1619280" cy="545760"/>
                <a:chOff x="1223640" y="5157720"/>
                <a:chExt cx="1619280" cy="5457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1472760" y="515772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2" name=""/>
                <p:cNvGrpSpPr/>
                <p:nvPr/>
              </p:nvGrpSpPr>
              <p:grpSpPr>
                <a:xfrm>
                  <a:off x="1223640" y="5259240"/>
                  <a:ext cx="1619280" cy="444240"/>
                  <a:chOff x="1223640" y="5259240"/>
                  <a:chExt cx="1619280" cy="44424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1329840" y="5259240"/>
                    <a:ext cx="1513080" cy="444240"/>
                    <a:chOff x="1329840" y="5259240"/>
                    <a:chExt cx="1513080" cy="444240"/>
                  </a:xfrm>
                </p:grpSpPr>
                <p:grpSp>
                  <p:nvGrpSpPr>
                    <p:cNvPr id="1404" name=""/>
                    <p:cNvGrpSpPr/>
                    <p:nvPr/>
                  </p:nvGrpSpPr>
                  <p:grpSpPr>
                    <a:xfrm>
                      <a:off x="1329840" y="5300280"/>
                      <a:ext cx="187560" cy="349200"/>
                      <a:chOff x="1329840" y="5300280"/>
                      <a:chExt cx="187560" cy="349200"/>
                    </a:xfrm>
                  </p:grpSpPr>
                  <p:sp>
                    <p:nvSpPr>
                      <p:cNvPr id="1405" name=""/>
                      <p:cNvSpPr/>
                      <p:nvPr/>
                    </p:nvSpPr>
                    <p:spPr>
                      <a:xfrm>
                        <a:off x="1404720" y="5300280"/>
                        <a:ext cx="112680" cy="209520"/>
                      </a:xfrm>
                      <a:custGeom>
                        <a:avLst/>
                        <a:gdLst>
                          <a:gd name="textAreaLeft" fmla="*/ 5400 w 112680"/>
                          <a:gd name="textAreaRight" fmla="*/ 107280 w 11268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10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504"/>
                            </a:lnTo>
                            <a:arcTo wR="3600" hR="3600" stAng="10800000" swAng="-5400000"/>
                            <a:lnTo>
                              <a:pt x="18000" y="4010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6" name=""/>
                      <p:cNvSpPr/>
                      <p:nvPr/>
                    </p:nvSpPr>
                    <p:spPr>
                      <a:xfrm>
                        <a:off x="1329840" y="5508360"/>
                        <a:ext cx="17460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"/>
                      <p:cNvSpPr/>
                      <p:nvPr/>
                    </p:nvSpPr>
                    <p:spPr>
                      <a:xfrm>
                        <a:off x="1404720" y="5370120"/>
                        <a:ext cx="110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8" name=""/>
                      <p:cNvSpPr/>
                      <p:nvPr/>
                    </p:nvSpPr>
                    <p:spPr>
                      <a:xfrm>
                        <a:off x="1404720" y="547488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9" name=""/>
                      <p:cNvSpPr/>
                      <p:nvPr/>
                    </p:nvSpPr>
                    <p:spPr>
                      <a:xfrm>
                        <a:off x="1391760" y="552744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0" name=""/>
                      <p:cNvSpPr/>
                      <p:nvPr/>
                    </p:nvSpPr>
                    <p:spPr>
                      <a:xfrm>
                        <a:off x="1368000" y="556236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1" name=""/>
                      <p:cNvSpPr/>
                      <p:nvPr/>
                    </p:nvSpPr>
                    <p:spPr>
                      <a:xfrm>
                        <a:off x="1352160" y="559728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2" name=""/>
                      <p:cNvSpPr/>
                      <p:nvPr/>
                    </p:nvSpPr>
                    <p:spPr>
                      <a:xfrm flipH="1">
                        <a:off x="1362960" y="5527440"/>
                        <a:ext cx="572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3" name=""/>
                      <p:cNvSpPr/>
                      <p:nvPr/>
                    </p:nvSpPr>
                    <p:spPr>
                      <a:xfrm>
                        <a:off x="1333080" y="562572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4" name=""/>
                      <p:cNvSpPr/>
                      <p:nvPr/>
                    </p:nvSpPr>
                    <p:spPr>
                      <a:xfrm flipH="1">
                        <a:off x="1390320" y="5528880"/>
                        <a:ext cx="554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5" name=""/>
                      <p:cNvSpPr/>
                      <p:nvPr/>
                    </p:nvSpPr>
                    <p:spPr>
                      <a:xfrm flipH="1">
                        <a:off x="1418400" y="5527440"/>
                        <a:ext cx="5724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16" name=""/>
                    <p:cNvSpPr/>
                    <p:nvPr/>
                  </p:nvSpPr>
                  <p:spPr>
                    <a:xfrm>
                      <a:off x="1561680" y="5398920"/>
                      <a:ext cx="128124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Adon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New 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1574280" y="525924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8" name=""/>
                  <p:cNvSpPr/>
                  <p:nvPr/>
                </p:nvSpPr>
                <p:spPr>
                  <a:xfrm>
                    <a:off x="1223640" y="538632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9" name=""/>
              <p:cNvGrpSpPr/>
              <p:nvPr/>
            </p:nvGrpSpPr>
            <p:grpSpPr>
              <a:xfrm>
                <a:off x="6878520" y="4908600"/>
                <a:ext cx="1222200" cy="466200"/>
                <a:chOff x="6878520" y="4908600"/>
                <a:chExt cx="1222200" cy="466200"/>
              </a:xfrm>
            </p:grpSpPr>
            <p:grpSp>
              <p:nvGrpSpPr>
                <p:cNvPr id="1420" name=""/>
                <p:cNvGrpSpPr/>
                <p:nvPr/>
              </p:nvGrpSpPr>
              <p:grpSpPr>
                <a:xfrm>
                  <a:off x="6878520" y="4908600"/>
                  <a:ext cx="1222200" cy="457560"/>
                  <a:chOff x="6878520" y="4908600"/>
                  <a:chExt cx="1222200" cy="457560"/>
                </a:xfrm>
              </p:grpSpPr>
              <p:grpSp>
                <p:nvGrpSpPr>
                  <p:cNvPr id="1421" name=""/>
                  <p:cNvGrpSpPr/>
                  <p:nvPr/>
                </p:nvGrpSpPr>
                <p:grpSpPr>
                  <a:xfrm>
                    <a:off x="6878520" y="4908600"/>
                    <a:ext cx="1222200" cy="457560"/>
                    <a:chOff x="6878520" y="4908600"/>
                    <a:chExt cx="1222200" cy="457560"/>
                  </a:xfrm>
                </p:grpSpPr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6933960" y="521352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8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3" name=""/>
                    <p:cNvSpPr/>
                    <p:nvPr/>
                  </p:nvSpPr>
                  <p:spPr>
                    <a:xfrm>
                      <a:off x="6878520" y="4908600"/>
                      <a:ext cx="122220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laming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Came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24" name=""/>
                    <p:cNvGrpSpPr/>
                    <p:nvPr/>
                  </p:nvGrpSpPr>
                  <p:grpSpPr>
                    <a:xfrm>
                      <a:off x="7268760" y="5068800"/>
                      <a:ext cx="302400" cy="204840"/>
                      <a:chOff x="7268760" y="5068800"/>
                      <a:chExt cx="302400" cy="204840"/>
                    </a:xfrm>
                  </p:grpSpPr>
                  <p:sp>
                    <p:nvSpPr>
                      <p:cNvPr id="1425" name=""/>
                      <p:cNvSpPr/>
                      <p:nvPr/>
                    </p:nvSpPr>
                    <p:spPr>
                      <a:xfrm>
                        <a:off x="7268760" y="5173560"/>
                        <a:ext cx="23616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6" name=""/>
                      <p:cNvSpPr/>
                      <p:nvPr/>
                    </p:nvSpPr>
                    <p:spPr>
                      <a:xfrm>
                        <a:off x="7352280" y="51879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7" name=""/>
                      <p:cNvSpPr/>
                      <p:nvPr/>
                    </p:nvSpPr>
                    <p:spPr>
                      <a:xfrm>
                        <a:off x="7320600" y="521172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8" name=""/>
                      <p:cNvSpPr/>
                      <p:nvPr/>
                    </p:nvSpPr>
                    <p:spPr>
                      <a:xfrm>
                        <a:off x="7300080" y="523728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9" name=""/>
                      <p:cNvSpPr/>
                      <p:nvPr/>
                    </p:nvSpPr>
                    <p:spPr>
                      <a:xfrm flipH="1">
                        <a:off x="7313760" y="5187960"/>
                        <a:ext cx="7596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0" name=""/>
                      <p:cNvSpPr/>
                      <p:nvPr/>
                    </p:nvSpPr>
                    <p:spPr>
                      <a:xfrm>
                        <a:off x="7273080" y="525636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1" name=""/>
                      <p:cNvSpPr/>
                      <p:nvPr/>
                    </p:nvSpPr>
                    <p:spPr>
                      <a:xfrm flipH="1">
                        <a:off x="7348680" y="5189400"/>
                        <a:ext cx="75960" cy="6696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2" name=""/>
                      <p:cNvSpPr/>
                      <p:nvPr/>
                    </p:nvSpPr>
                    <p:spPr>
                      <a:xfrm flipH="1">
                        <a:off x="7390080" y="5187960"/>
                        <a:ext cx="7596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3" name=""/>
                      <p:cNvSpPr/>
                      <p:nvPr/>
                    </p:nvSpPr>
                    <p:spPr>
                      <a:xfrm>
                        <a:off x="7335000" y="5068800"/>
                        <a:ext cx="23616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4" name=""/>
                      <p:cNvSpPr/>
                      <p:nvPr/>
                    </p:nvSpPr>
                    <p:spPr>
                      <a:xfrm>
                        <a:off x="7409520" y="510048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5" name=""/>
                      <p:cNvSpPr/>
                      <p:nvPr/>
                    </p:nvSpPr>
                    <p:spPr>
                      <a:xfrm>
                        <a:off x="7366680" y="514512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36" name=""/>
                  <p:cNvSpPr/>
                  <p:nvPr/>
                </p:nvSpPr>
                <p:spPr>
                  <a:xfrm>
                    <a:off x="7606800" y="513072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7" name=""/>
                <p:cNvSpPr/>
                <p:nvPr/>
              </p:nvSpPr>
              <p:spPr>
                <a:xfrm>
                  <a:off x="7501680" y="52372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6312960" y="5300640"/>
                <a:ext cx="1787760" cy="486720"/>
                <a:chOff x="6312960" y="5300640"/>
                <a:chExt cx="1787760" cy="486720"/>
              </a:xfrm>
            </p:grpSpPr>
            <p:grpSp>
              <p:nvGrpSpPr>
                <p:cNvPr id="1439" name=""/>
                <p:cNvGrpSpPr/>
                <p:nvPr/>
              </p:nvGrpSpPr>
              <p:grpSpPr>
                <a:xfrm>
                  <a:off x="6312960" y="5300640"/>
                  <a:ext cx="1787760" cy="458280"/>
                  <a:chOff x="6312960" y="5300640"/>
                  <a:chExt cx="1787760" cy="458280"/>
                </a:xfrm>
              </p:grpSpPr>
              <p:grpSp>
                <p:nvGrpSpPr>
                  <p:cNvPr id="1440" name=""/>
                  <p:cNvGrpSpPr/>
                  <p:nvPr/>
                </p:nvGrpSpPr>
                <p:grpSpPr>
                  <a:xfrm>
                    <a:off x="6409800" y="5300640"/>
                    <a:ext cx="1690920" cy="458280"/>
                    <a:chOff x="6409800" y="5300640"/>
                    <a:chExt cx="1690920" cy="458280"/>
                  </a:xfrm>
                </p:grpSpPr>
                <p:sp>
                  <p:nvSpPr>
                    <p:cNvPr id="1441" name=""/>
                    <p:cNvSpPr/>
                    <p:nvPr/>
                  </p:nvSpPr>
                  <p:spPr>
                    <a:xfrm>
                      <a:off x="6732000" y="5454360"/>
                      <a:ext cx="136872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lamingo DT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2nd 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42" name=""/>
                    <p:cNvGrpSpPr/>
                    <p:nvPr/>
                  </p:nvGrpSpPr>
                  <p:grpSpPr>
                    <a:xfrm>
                      <a:off x="6409800" y="5449680"/>
                      <a:ext cx="303120" cy="204840"/>
                      <a:chOff x="6409800" y="5449680"/>
                      <a:chExt cx="303120" cy="204840"/>
                    </a:xfrm>
                  </p:grpSpPr>
                  <p:sp>
                    <p:nvSpPr>
                      <p:cNvPr id="1443" name=""/>
                      <p:cNvSpPr/>
                      <p:nvPr/>
                    </p:nvSpPr>
                    <p:spPr>
                      <a:xfrm>
                        <a:off x="6409800" y="5554440"/>
                        <a:ext cx="2365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4" name=""/>
                      <p:cNvSpPr/>
                      <p:nvPr/>
                    </p:nvSpPr>
                    <p:spPr>
                      <a:xfrm>
                        <a:off x="6493680" y="5568840"/>
                        <a:ext cx="152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5" name=""/>
                      <p:cNvSpPr/>
                      <p:nvPr/>
                    </p:nvSpPr>
                    <p:spPr>
                      <a:xfrm>
                        <a:off x="6462000" y="55926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6" name=""/>
                      <p:cNvSpPr/>
                      <p:nvPr/>
                    </p:nvSpPr>
                    <p:spPr>
                      <a:xfrm>
                        <a:off x="6441480" y="56181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7" name=""/>
                      <p:cNvSpPr/>
                      <p:nvPr/>
                    </p:nvSpPr>
                    <p:spPr>
                      <a:xfrm flipH="1">
                        <a:off x="6455520" y="5568840"/>
                        <a:ext cx="7632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8" name=""/>
                      <p:cNvSpPr/>
                      <p:nvPr/>
                    </p:nvSpPr>
                    <p:spPr>
                      <a:xfrm>
                        <a:off x="6414480" y="563724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9" name=""/>
                      <p:cNvSpPr/>
                      <p:nvPr/>
                    </p:nvSpPr>
                    <p:spPr>
                      <a:xfrm flipH="1">
                        <a:off x="6490440" y="5570280"/>
                        <a:ext cx="76320" cy="6696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0" name=""/>
                      <p:cNvSpPr/>
                      <p:nvPr/>
                    </p:nvSpPr>
                    <p:spPr>
                      <a:xfrm flipH="1">
                        <a:off x="6531840" y="5568840"/>
                        <a:ext cx="7632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1" name=""/>
                      <p:cNvSpPr/>
                      <p:nvPr/>
                    </p:nvSpPr>
                    <p:spPr>
                      <a:xfrm>
                        <a:off x="6476400" y="5449680"/>
                        <a:ext cx="23652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2" name=""/>
                      <p:cNvSpPr/>
                      <p:nvPr/>
                    </p:nvSpPr>
                    <p:spPr>
                      <a:xfrm>
                        <a:off x="6550920" y="54813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3" name=""/>
                      <p:cNvSpPr/>
                      <p:nvPr/>
                    </p:nvSpPr>
                    <p:spPr>
                      <a:xfrm>
                        <a:off x="6508080" y="55260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54" name=""/>
                    <p:cNvSpPr/>
                    <p:nvPr/>
                  </p:nvSpPr>
                  <p:spPr>
                    <a:xfrm>
                      <a:off x="6447960" y="5300640"/>
                      <a:ext cx="8888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6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5" name=""/>
                  <p:cNvSpPr/>
                  <p:nvPr/>
                </p:nvSpPr>
                <p:spPr>
                  <a:xfrm>
                    <a:off x="6312960" y="546876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6" name=""/>
                <p:cNvSpPr/>
                <p:nvPr/>
              </p:nvSpPr>
              <p:spPr>
                <a:xfrm>
                  <a:off x="7084440" y="564984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4150080" y="5516640"/>
                <a:ext cx="1143000" cy="580680"/>
                <a:chOff x="4150080" y="5516640"/>
                <a:chExt cx="1143000" cy="580680"/>
              </a:xfrm>
            </p:grpSpPr>
            <p:grpSp>
              <p:nvGrpSpPr>
                <p:cNvPr id="1458" name=""/>
                <p:cNvGrpSpPr/>
                <p:nvPr/>
              </p:nvGrpSpPr>
              <p:grpSpPr>
                <a:xfrm>
                  <a:off x="4150080" y="5516640"/>
                  <a:ext cx="1143000" cy="580680"/>
                  <a:chOff x="4150080" y="5516640"/>
                  <a:chExt cx="1143000" cy="580680"/>
                </a:xfrm>
              </p:grpSpPr>
              <p:grpSp>
                <p:nvGrpSpPr>
                  <p:cNvPr id="1459" name=""/>
                  <p:cNvGrpSpPr/>
                  <p:nvPr/>
                </p:nvGrpSpPr>
                <p:grpSpPr>
                  <a:xfrm>
                    <a:off x="4150080" y="5516640"/>
                    <a:ext cx="1143000" cy="580680"/>
                    <a:chOff x="4150080" y="5516640"/>
                    <a:chExt cx="1143000" cy="580680"/>
                  </a:xfrm>
                </p:grpSpPr>
                <p:sp>
                  <p:nvSpPr>
                    <p:cNvPr id="1460" name=""/>
                    <p:cNvSpPr/>
                    <p:nvPr/>
                  </p:nvSpPr>
                  <p:spPr>
                    <a:xfrm>
                      <a:off x="4755960" y="551664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5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61" name=""/>
                    <p:cNvGrpSpPr/>
                    <p:nvPr/>
                  </p:nvGrpSpPr>
                  <p:grpSpPr>
                    <a:xfrm>
                      <a:off x="4859640" y="5707080"/>
                      <a:ext cx="111240" cy="371520"/>
                      <a:chOff x="4859640" y="5707080"/>
                      <a:chExt cx="111240" cy="371520"/>
                    </a:xfrm>
                  </p:grpSpPr>
                  <p:sp>
                    <p:nvSpPr>
                      <p:cNvPr id="1462" name=""/>
                      <p:cNvSpPr/>
                      <p:nvPr/>
                    </p:nvSpPr>
                    <p:spPr>
                      <a:xfrm>
                        <a:off x="4859640" y="5707080"/>
                        <a:ext cx="111240" cy="371520"/>
                      </a:xfrm>
                      <a:custGeom>
                        <a:avLst/>
                        <a:gdLst>
                          <a:gd name="textAreaLeft" fmla="*/ 5400 w 111240"/>
                          <a:gd name="textAreaRight" fmla="*/ 105840 w 111240"/>
                          <a:gd name="textAreaTop" fmla="*/ 5400 h 371520"/>
                          <a:gd name="textAreaBottom" fmla="*/ 366120 h 371520"/>
                        </a:gdLst>
                        <a:ahLst/>
                        <a:rect l="textAreaLeft" t="textAreaTop" r="textAreaRight" b="textAreaBottom"/>
                        <a:pathLst>
                          <a:path w="21600" h="7197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77"/>
                            </a:lnTo>
                            <a:arcTo wR="3600" hR="3600" stAng="10800000" swAng="-5400000"/>
                            <a:lnTo>
                              <a:pt x="18000" y="7197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3" name=""/>
                      <p:cNvSpPr/>
                      <p:nvPr/>
                    </p:nvSpPr>
                    <p:spPr>
                      <a:xfrm>
                        <a:off x="4859640" y="57812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4" name=""/>
                      <p:cNvSpPr/>
                      <p:nvPr/>
                    </p:nvSpPr>
                    <p:spPr>
                      <a:xfrm>
                        <a:off x="4859640" y="58928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5" name=""/>
                      <p:cNvSpPr/>
                      <p:nvPr/>
                    </p:nvSpPr>
                    <p:spPr>
                      <a:xfrm>
                        <a:off x="4859640" y="59299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6" name=""/>
                      <p:cNvSpPr/>
                      <p:nvPr/>
                    </p:nvSpPr>
                    <p:spPr>
                      <a:xfrm>
                        <a:off x="4859640" y="596700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7" name=""/>
                      <p:cNvSpPr/>
                      <p:nvPr/>
                    </p:nvSpPr>
                    <p:spPr>
                      <a:xfrm>
                        <a:off x="4859640" y="60044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8" name=""/>
                      <p:cNvSpPr/>
                      <p:nvPr/>
                    </p:nvSpPr>
                    <p:spPr>
                      <a:xfrm>
                        <a:off x="4859640" y="60415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9" name=""/>
                      <p:cNvSpPr/>
                      <p:nvPr/>
                    </p:nvSpPr>
                    <p:spPr>
                      <a:xfrm>
                        <a:off x="494316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0" name=""/>
                      <p:cNvSpPr/>
                      <p:nvPr/>
                    </p:nvSpPr>
                    <p:spPr>
                      <a:xfrm>
                        <a:off x="491508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1" name=""/>
                      <p:cNvSpPr/>
                      <p:nvPr/>
                    </p:nvSpPr>
                    <p:spPr>
                      <a:xfrm>
                        <a:off x="488736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72" name=""/>
                    <p:cNvSpPr/>
                    <p:nvPr/>
                  </p:nvSpPr>
                  <p:spPr>
                    <a:xfrm>
                      <a:off x="4150080" y="5792760"/>
                      <a:ext cx="114300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inch D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(Dodo col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3" name=""/>
                  <p:cNvSpPr/>
                  <p:nvPr/>
                </p:nvSpPr>
                <p:spPr>
                  <a:xfrm>
                    <a:off x="4680360" y="567216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4" name=""/>
                <p:cNvSpPr/>
                <p:nvPr/>
              </p:nvSpPr>
              <p:spPr>
                <a:xfrm>
                  <a:off x="4445280" y="566100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2998800" y="5081760"/>
                <a:ext cx="1496160" cy="519840"/>
                <a:chOff x="2998800" y="5081760"/>
                <a:chExt cx="1496160" cy="519840"/>
              </a:xfrm>
            </p:grpSpPr>
            <p:grpSp>
              <p:nvGrpSpPr>
                <p:cNvPr id="1476" name=""/>
                <p:cNvGrpSpPr/>
                <p:nvPr/>
              </p:nvGrpSpPr>
              <p:grpSpPr>
                <a:xfrm>
                  <a:off x="3030480" y="5081760"/>
                  <a:ext cx="1464480" cy="447120"/>
                  <a:chOff x="3030480" y="5081760"/>
                  <a:chExt cx="1464480" cy="447120"/>
                </a:xfrm>
              </p:grpSpPr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3030480" y="5081760"/>
                    <a:ext cx="1464480" cy="447120"/>
                    <a:chOff x="3030480" y="5081760"/>
                    <a:chExt cx="1464480" cy="447120"/>
                  </a:xfrm>
                </p:grpSpPr>
                <p:grpSp>
                  <p:nvGrpSpPr>
                    <p:cNvPr id="1478" name=""/>
                    <p:cNvGrpSpPr/>
                    <p:nvPr/>
                  </p:nvGrpSpPr>
                  <p:grpSpPr>
                    <a:xfrm>
                      <a:off x="3030480" y="5081760"/>
                      <a:ext cx="110520" cy="371160"/>
                      <a:chOff x="3030480" y="5081760"/>
                      <a:chExt cx="110520" cy="371160"/>
                    </a:xfrm>
                  </p:grpSpPr>
                  <p:sp>
                    <p:nvSpPr>
                      <p:cNvPr id="1479" name=""/>
                      <p:cNvSpPr/>
                      <p:nvPr/>
                    </p:nvSpPr>
                    <p:spPr>
                      <a:xfrm>
                        <a:off x="3030480" y="5081760"/>
                        <a:ext cx="110520" cy="371160"/>
                      </a:xfrm>
                      <a:custGeom>
                        <a:avLst/>
                        <a:gdLst>
                          <a:gd name="textAreaLeft" fmla="*/ 5400 w 110520"/>
                          <a:gd name="textAreaRight" fmla="*/ 105120 w 11052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237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774"/>
                            </a:lnTo>
                            <a:arcTo wR="3600" hR="3600" stAng="10800000" swAng="-5400000"/>
                            <a:lnTo>
                              <a:pt x="18000" y="7237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0" name=""/>
                      <p:cNvSpPr/>
                      <p:nvPr/>
                    </p:nvSpPr>
                    <p:spPr>
                      <a:xfrm>
                        <a:off x="3030480" y="51559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1" name=""/>
                      <p:cNvSpPr/>
                      <p:nvPr/>
                    </p:nvSpPr>
                    <p:spPr>
                      <a:xfrm>
                        <a:off x="3030480" y="52675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2" name=""/>
                      <p:cNvSpPr/>
                      <p:nvPr/>
                    </p:nvSpPr>
                    <p:spPr>
                      <a:xfrm>
                        <a:off x="3030480" y="53042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3" name=""/>
                      <p:cNvSpPr/>
                      <p:nvPr/>
                    </p:nvSpPr>
                    <p:spPr>
                      <a:xfrm>
                        <a:off x="3030480" y="53416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4" name=""/>
                      <p:cNvSpPr/>
                      <p:nvPr/>
                    </p:nvSpPr>
                    <p:spPr>
                      <a:xfrm>
                        <a:off x="3030480" y="53787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5" name=""/>
                      <p:cNvSpPr/>
                      <p:nvPr/>
                    </p:nvSpPr>
                    <p:spPr>
                      <a:xfrm>
                        <a:off x="3030480" y="54158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6" name=""/>
                      <p:cNvSpPr/>
                      <p:nvPr/>
                    </p:nvSpPr>
                    <p:spPr>
                      <a:xfrm>
                        <a:off x="311328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7" name=""/>
                      <p:cNvSpPr/>
                      <p:nvPr/>
                    </p:nvSpPr>
                    <p:spPr>
                      <a:xfrm>
                        <a:off x="308556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8" name=""/>
                      <p:cNvSpPr/>
                      <p:nvPr/>
                    </p:nvSpPr>
                    <p:spPr>
                      <a:xfrm>
                        <a:off x="305820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3214080" y="522432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in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Mu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3198600" y="508176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2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1" name=""/>
                  <p:cNvSpPr/>
                  <p:nvPr/>
                </p:nvSpPr>
                <p:spPr>
                  <a:xfrm>
                    <a:off x="3587400" y="511344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2" name=""/>
                <p:cNvSpPr/>
                <p:nvPr/>
              </p:nvSpPr>
              <p:spPr>
                <a:xfrm>
                  <a:off x="2998800" y="54640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1853640" y="5011560"/>
                <a:ext cx="972000" cy="433440"/>
                <a:chOff x="1853640" y="5011560"/>
                <a:chExt cx="972000" cy="433440"/>
              </a:xfrm>
            </p:grpSpPr>
            <p:grpSp>
              <p:nvGrpSpPr>
                <p:cNvPr id="1494" name=""/>
                <p:cNvGrpSpPr/>
                <p:nvPr/>
              </p:nvGrpSpPr>
              <p:grpSpPr>
                <a:xfrm>
                  <a:off x="1853640" y="5013360"/>
                  <a:ext cx="972000" cy="431640"/>
                  <a:chOff x="1853640" y="5013360"/>
                  <a:chExt cx="972000" cy="431640"/>
                </a:xfrm>
              </p:grpSpPr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1853640" y="5013360"/>
                    <a:ext cx="972000" cy="431640"/>
                    <a:chOff x="1853640" y="5013360"/>
                    <a:chExt cx="972000" cy="431640"/>
                  </a:xfrm>
                </p:grpSpPr>
                <p:grpSp>
                  <p:nvGrpSpPr>
                    <p:cNvPr id="1496" name=""/>
                    <p:cNvGrpSpPr/>
                    <p:nvPr/>
                  </p:nvGrpSpPr>
                  <p:grpSpPr>
                    <a:xfrm>
                      <a:off x="2638800" y="5095800"/>
                      <a:ext cx="186840" cy="349200"/>
                      <a:chOff x="2638800" y="5095800"/>
                      <a:chExt cx="186840" cy="349200"/>
                    </a:xfrm>
                  </p:grpSpPr>
                  <p:sp>
                    <p:nvSpPr>
                      <p:cNvPr id="1497" name=""/>
                      <p:cNvSpPr/>
                      <p:nvPr/>
                    </p:nvSpPr>
                    <p:spPr>
                      <a:xfrm>
                        <a:off x="2713320" y="5095800"/>
                        <a:ext cx="112320" cy="209520"/>
                      </a:xfrm>
                      <a:custGeom>
                        <a:avLst/>
                        <a:gdLst>
                          <a:gd name="textAreaLeft" fmla="*/ 5400 w 112320"/>
                          <a:gd name="textAreaRight" fmla="*/ 106920 w 11232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233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633"/>
                            </a:lnTo>
                            <a:arcTo wR="3600" hR="3600" stAng="10800000" swAng="-5400000"/>
                            <a:lnTo>
                              <a:pt x="18000" y="40233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8" name=""/>
                      <p:cNvSpPr/>
                      <p:nvPr/>
                    </p:nvSpPr>
                    <p:spPr>
                      <a:xfrm>
                        <a:off x="2638800" y="5303880"/>
                        <a:ext cx="17424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9" name=""/>
                      <p:cNvSpPr/>
                      <p:nvPr/>
                    </p:nvSpPr>
                    <p:spPr>
                      <a:xfrm>
                        <a:off x="2713320" y="51656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0" name=""/>
                      <p:cNvSpPr/>
                      <p:nvPr/>
                    </p:nvSpPr>
                    <p:spPr>
                      <a:xfrm>
                        <a:off x="2713320" y="527040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1" name=""/>
                      <p:cNvSpPr/>
                      <p:nvPr/>
                    </p:nvSpPr>
                    <p:spPr>
                      <a:xfrm>
                        <a:off x="2700360" y="532296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2" name=""/>
                      <p:cNvSpPr/>
                      <p:nvPr/>
                    </p:nvSpPr>
                    <p:spPr>
                      <a:xfrm>
                        <a:off x="2676600" y="535788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3" name=""/>
                      <p:cNvSpPr/>
                      <p:nvPr/>
                    </p:nvSpPr>
                    <p:spPr>
                      <a:xfrm>
                        <a:off x="2660760" y="539280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4" name=""/>
                      <p:cNvSpPr/>
                      <p:nvPr/>
                    </p:nvSpPr>
                    <p:spPr>
                      <a:xfrm flipH="1">
                        <a:off x="2671920" y="5322960"/>
                        <a:ext cx="5688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5" name=""/>
                      <p:cNvSpPr/>
                      <p:nvPr/>
                    </p:nvSpPr>
                    <p:spPr>
                      <a:xfrm>
                        <a:off x="2641680" y="542124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6" name=""/>
                      <p:cNvSpPr/>
                      <p:nvPr/>
                    </p:nvSpPr>
                    <p:spPr>
                      <a:xfrm flipH="1">
                        <a:off x="2698560" y="5324400"/>
                        <a:ext cx="5508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7" name=""/>
                      <p:cNvSpPr/>
                      <p:nvPr/>
                    </p:nvSpPr>
                    <p:spPr>
                      <a:xfrm flipH="1">
                        <a:off x="2727360" y="5322960"/>
                        <a:ext cx="5688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1853640" y="5103720"/>
                      <a:ext cx="75996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Leop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EG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2356560" y="501336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1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0" name=""/>
                  <p:cNvSpPr/>
                  <p:nvPr/>
                </p:nvSpPr>
                <p:spPr>
                  <a:xfrm>
                    <a:off x="2267280" y="530064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2101320" y="501156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237600" y="5013360"/>
                <a:ext cx="1573200" cy="496440"/>
                <a:chOff x="237600" y="5013360"/>
                <a:chExt cx="1573200" cy="496440"/>
              </a:xfrm>
            </p:grpSpPr>
            <p:grpSp>
              <p:nvGrpSpPr>
                <p:cNvPr id="1513" name=""/>
                <p:cNvGrpSpPr/>
                <p:nvPr/>
              </p:nvGrpSpPr>
              <p:grpSpPr>
                <a:xfrm>
                  <a:off x="237600" y="5013360"/>
                  <a:ext cx="1573200" cy="496440"/>
                  <a:chOff x="237600" y="5013360"/>
                  <a:chExt cx="1573200" cy="496440"/>
                </a:xfrm>
              </p:grpSpPr>
              <p:grpSp>
                <p:nvGrpSpPr>
                  <p:cNvPr id="1514" name=""/>
                  <p:cNvGrpSpPr/>
                  <p:nvPr/>
                </p:nvGrpSpPr>
                <p:grpSpPr>
                  <a:xfrm>
                    <a:off x="380520" y="5013360"/>
                    <a:ext cx="1430280" cy="496440"/>
                    <a:chOff x="380520" y="5013360"/>
                    <a:chExt cx="1430280" cy="496440"/>
                  </a:xfrm>
                </p:grpSpPr>
                <p:grpSp>
                  <p:nvGrpSpPr>
                    <p:cNvPr id="1515" name=""/>
                    <p:cNvGrpSpPr/>
                    <p:nvPr/>
                  </p:nvGrpSpPr>
                  <p:grpSpPr>
                    <a:xfrm>
                      <a:off x="380520" y="5013360"/>
                      <a:ext cx="111240" cy="371160"/>
                      <a:chOff x="380520" y="5013360"/>
                      <a:chExt cx="111240" cy="371160"/>
                    </a:xfrm>
                  </p:grpSpPr>
                  <p:sp>
                    <p:nvSpPr>
                      <p:cNvPr id="1516" name=""/>
                      <p:cNvSpPr/>
                      <p:nvPr/>
                    </p:nvSpPr>
                    <p:spPr>
                      <a:xfrm>
                        <a:off x="380520" y="5013360"/>
                        <a:ext cx="111240" cy="371160"/>
                      </a:xfrm>
                      <a:custGeom>
                        <a:avLst/>
                        <a:gdLst>
                          <a:gd name="textAreaLeft" fmla="*/ 5400 w 111240"/>
                          <a:gd name="textAreaRight" fmla="*/ 105840 w 11124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190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07"/>
                            </a:lnTo>
                            <a:arcTo wR="3600" hR="3600" stAng="10800000" swAng="-5400000"/>
                            <a:lnTo>
                              <a:pt x="18000" y="7190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7" name=""/>
                      <p:cNvSpPr/>
                      <p:nvPr/>
                    </p:nvSpPr>
                    <p:spPr>
                      <a:xfrm>
                        <a:off x="380520" y="50875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8" name=""/>
                      <p:cNvSpPr/>
                      <p:nvPr/>
                    </p:nvSpPr>
                    <p:spPr>
                      <a:xfrm>
                        <a:off x="380520" y="51991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9" name=""/>
                      <p:cNvSpPr/>
                      <p:nvPr/>
                    </p:nvSpPr>
                    <p:spPr>
                      <a:xfrm>
                        <a:off x="380520" y="52358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0" name=""/>
                      <p:cNvSpPr/>
                      <p:nvPr/>
                    </p:nvSpPr>
                    <p:spPr>
                      <a:xfrm>
                        <a:off x="380520" y="527328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1" name=""/>
                      <p:cNvSpPr/>
                      <p:nvPr/>
                    </p:nvSpPr>
                    <p:spPr>
                      <a:xfrm>
                        <a:off x="380520" y="531036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2" name=""/>
                      <p:cNvSpPr/>
                      <p:nvPr/>
                    </p:nvSpPr>
                    <p:spPr>
                      <a:xfrm>
                        <a:off x="380520" y="53474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3" name=""/>
                      <p:cNvSpPr/>
                      <p:nvPr/>
                    </p:nvSpPr>
                    <p:spPr>
                      <a:xfrm>
                        <a:off x="46404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4" name=""/>
                      <p:cNvSpPr/>
                      <p:nvPr/>
                    </p:nvSpPr>
                    <p:spPr>
                      <a:xfrm>
                        <a:off x="43596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5" name=""/>
                      <p:cNvSpPr/>
                      <p:nvPr/>
                    </p:nvSpPr>
                    <p:spPr>
                      <a:xfrm>
                        <a:off x="40824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26" name=""/>
                    <p:cNvSpPr/>
                    <p:nvPr/>
                  </p:nvSpPr>
                  <p:spPr>
                    <a:xfrm>
                      <a:off x="522360" y="506412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0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529920" y="520524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He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V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8" name=""/>
                  <p:cNvSpPr/>
                  <p:nvPr/>
                </p:nvSpPr>
                <p:spPr>
                  <a:xfrm>
                    <a:off x="237600" y="515772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9" name=""/>
                <p:cNvSpPr/>
                <p:nvPr/>
              </p:nvSpPr>
              <p:spPr>
                <a:xfrm>
                  <a:off x="853560" y="51832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147600" y="4389480"/>
                <a:ext cx="1490760" cy="507960"/>
                <a:chOff x="147600" y="4389480"/>
                <a:chExt cx="1490760" cy="507960"/>
              </a:xfrm>
            </p:grpSpPr>
            <p:grpSp>
              <p:nvGrpSpPr>
                <p:cNvPr id="1531" name=""/>
                <p:cNvGrpSpPr/>
                <p:nvPr/>
              </p:nvGrpSpPr>
              <p:grpSpPr>
                <a:xfrm>
                  <a:off x="212760" y="4400640"/>
                  <a:ext cx="1425600" cy="496800"/>
                  <a:chOff x="212760" y="4400640"/>
                  <a:chExt cx="1425600" cy="496800"/>
                </a:xfrm>
              </p:grpSpPr>
              <p:grpSp>
                <p:nvGrpSpPr>
                  <p:cNvPr id="1532" name=""/>
                  <p:cNvGrpSpPr/>
                  <p:nvPr/>
                </p:nvGrpSpPr>
                <p:grpSpPr>
                  <a:xfrm>
                    <a:off x="212760" y="4525920"/>
                    <a:ext cx="111240" cy="371520"/>
                    <a:chOff x="212760" y="4525920"/>
                    <a:chExt cx="111240" cy="371520"/>
                  </a:xfrm>
                </p:grpSpPr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212760" y="4525920"/>
                      <a:ext cx="111240" cy="371520"/>
                    </a:xfrm>
                    <a:custGeom>
                      <a:avLst/>
                      <a:gdLst>
                        <a:gd name="textAreaLeft" fmla="*/ 5400 w 111240"/>
                        <a:gd name="textAreaRight" fmla="*/ 105840 w 111240"/>
                        <a:gd name="textAreaTop" fmla="*/ 5400 h 371520"/>
                        <a:gd name="textAreaBottom" fmla="*/ 366120 h 371520"/>
                      </a:gdLst>
                      <a:ahLst/>
                      <a:rect l="textAreaLeft" t="textAreaTop" r="textAreaRight" b="textAreaBottom"/>
                      <a:pathLst>
                        <a:path w="21600" h="71977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68377"/>
                          </a:lnTo>
                          <a:arcTo wR="3600" hR="3600" stAng="10800000" swAng="-5400000"/>
                          <a:lnTo>
                            <a:pt x="18000" y="71977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e68d34"/>
                    </a:solidFill>
                    <a:ln w="9360">
                      <a:solidFill>
                        <a:srgbClr val="dddddd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212760" y="46000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212760" y="47116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6" name=""/>
                    <p:cNvSpPr/>
                    <p:nvPr/>
                  </p:nvSpPr>
                  <p:spPr>
                    <a:xfrm>
                      <a:off x="212760" y="474876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212760" y="478584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212760" y="48232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212760" y="486036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29628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1" name=""/>
                    <p:cNvSpPr/>
                    <p:nvPr/>
                  </p:nvSpPr>
                  <p:spPr>
                    <a:xfrm>
                      <a:off x="26820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24048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3" name=""/>
                  <p:cNvSpPr/>
                  <p:nvPr/>
                </p:nvSpPr>
                <p:spPr>
                  <a:xfrm>
                    <a:off x="357120" y="4700520"/>
                    <a:ext cx="12812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Siemens Sans"/>
                      </a:rPr>
                      <a:t>Herm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384480" y="4541760"/>
                    <a:ext cx="3344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09/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395280" y="4400640"/>
                    <a:ext cx="108000" cy="1076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6" name=""/>
                <p:cNvSpPr/>
                <p:nvPr/>
              </p:nvSpPr>
              <p:spPr>
                <a:xfrm>
                  <a:off x="147600" y="43894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7" name=""/>
          <p:cNvGrpSpPr/>
          <p:nvPr/>
        </p:nvGrpSpPr>
        <p:grpSpPr>
          <a:xfrm>
            <a:off x="5303880" y="5151600"/>
            <a:ext cx="923400" cy="422280"/>
            <a:chOff x="5303880" y="5151600"/>
            <a:chExt cx="923400" cy="422280"/>
          </a:xfrm>
        </p:grpSpPr>
        <p:grpSp>
          <p:nvGrpSpPr>
            <p:cNvPr id="1548" name=""/>
            <p:cNvGrpSpPr/>
            <p:nvPr/>
          </p:nvGrpSpPr>
          <p:grpSpPr>
            <a:xfrm>
              <a:off x="5376600" y="5151600"/>
              <a:ext cx="850680" cy="422280"/>
              <a:chOff x="5376600" y="5151600"/>
              <a:chExt cx="850680" cy="422280"/>
            </a:xfrm>
          </p:grpSpPr>
          <p:sp>
            <p:nvSpPr>
              <p:cNvPr id="1549" name=""/>
              <p:cNvSpPr/>
              <p:nvPr/>
            </p:nvSpPr>
            <p:spPr>
              <a:xfrm>
                <a:off x="5651280" y="5157720"/>
                <a:ext cx="576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cc0000"/>
                    </a:solidFill>
                    <a:latin typeface="Siemens Sans"/>
                  </a:rPr>
                  <a:t>Siski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cc0000"/>
                    </a:solidFill>
                    <a:latin typeface="Siemens Sans"/>
                  </a:rPr>
                  <a:t>2nd I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651280" y="5421240"/>
                <a:ext cx="47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5376600" y="5151600"/>
                <a:ext cx="186840" cy="349200"/>
                <a:chOff x="5376600" y="5151600"/>
                <a:chExt cx="186840" cy="34920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5451120" y="515160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376600" y="535968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5451120" y="522144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451120" y="53262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438160" y="5378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414400" y="54136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398560" y="54486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5409720" y="537876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5379480" y="54770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>
                  <a:off x="5436360" y="53802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>
                  <a:off x="5465160" y="537876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3" name=""/>
            <p:cNvSpPr/>
            <p:nvPr/>
          </p:nvSpPr>
          <p:spPr>
            <a:xfrm>
              <a:off x="5303880" y="5229360"/>
              <a:ext cx="108000" cy="10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114800" y="3200400"/>
            <a:ext cx="1851120" cy="734400"/>
            <a:chOff x="4114800" y="3200400"/>
            <a:chExt cx="1851120" cy="734400"/>
          </a:xfrm>
        </p:grpSpPr>
        <p:grpSp>
          <p:nvGrpSpPr>
            <p:cNvPr id="1565" name=""/>
            <p:cNvGrpSpPr/>
            <p:nvPr/>
          </p:nvGrpSpPr>
          <p:grpSpPr>
            <a:xfrm>
              <a:off x="4114800" y="3200400"/>
              <a:ext cx="1851120" cy="734400"/>
              <a:chOff x="4114800" y="3200400"/>
              <a:chExt cx="1851120" cy="734400"/>
            </a:xfrm>
          </p:grpSpPr>
          <p:grpSp>
            <p:nvGrpSpPr>
              <p:cNvPr id="1566" name=""/>
              <p:cNvGrpSpPr/>
              <p:nvPr/>
            </p:nvGrpSpPr>
            <p:grpSpPr>
              <a:xfrm>
                <a:off x="4114800" y="3200400"/>
                <a:ext cx="1851120" cy="734400"/>
                <a:chOff x="4114800" y="3200400"/>
                <a:chExt cx="1851120" cy="73440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597560" y="3291120"/>
                  <a:ext cx="1368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Sw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</a:t>
                  </a: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Minos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233960" y="3484800"/>
                  <a:ext cx="303120" cy="204120"/>
                  <a:chOff x="4233960" y="3484800"/>
                  <a:chExt cx="303120" cy="2041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233960" y="3589200"/>
                    <a:ext cx="2365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317840" y="360360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286160" y="3627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4265640" y="36529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 flipH="1">
                    <a:off x="427968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4238640" y="3672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4314600" y="360504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 flipH="1">
                    <a:off x="435600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4300560" y="3484800"/>
                    <a:ext cx="2365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4375080" y="3516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4332240" y="3560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0" name=""/>
                <p:cNvSpPr/>
                <p:nvPr/>
              </p:nvSpPr>
              <p:spPr>
                <a:xfrm>
                  <a:off x="4114800" y="3225960"/>
                  <a:ext cx="888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3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4513320" y="3200400"/>
                  <a:ext cx="122040" cy="111240"/>
                </a:xfrm>
                <a:prstGeom prst="ellipse">
                  <a:avLst/>
                </a:prstGeom>
                <a:solidFill>
                  <a:srgbClr val="8c9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4159440" y="37972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5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4597560" y="3594240"/>
                  <a:ext cx="1331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Multimedia;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4" name=""/>
              <p:cNvSpPr/>
              <p:nvPr/>
            </p:nvSpPr>
            <p:spPr>
              <a:xfrm>
                <a:off x="4659480" y="3208320"/>
                <a:ext cx="10764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5" name=""/>
            <p:cNvSpPr/>
            <p:nvPr/>
          </p:nvSpPr>
          <p:spPr>
            <a:xfrm>
              <a:off x="4802040" y="321156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203040" y="7128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-Release Plan SG2-Platform - Time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412920" y="1444680"/>
            <a:ext cx="8543880" cy="5103720"/>
          </a:xfrm>
          <a:prstGeom prst="rect">
            <a:avLst/>
          </a:prstGeom>
          <a:ln w="0">
            <a:noFill/>
          </a:ln>
        </p:spPr>
      </p:pic>
      <p:sp>
        <p:nvSpPr>
          <p:cNvPr id="1588" name=""/>
          <p:cNvSpPr/>
          <p:nvPr/>
        </p:nvSpPr>
        <p:spPr>
          <a:xfrm>
            <a:off x="4726080" y="5759280"/>
            <a:ext cx="3284280" cy="1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321680" y="5943600"/>
            <a:ext cx="1079280" cy="179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CL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76200" y="5759280"/>
            <a:ext cx="4349880" cy="1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76200" y="5581800"/>
            <a:ext cx="1079640" cy="179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MC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4265640" y="5938920"/>
            <a:ext cx="983880" cy="447480"/>
            <a:chOff x="4265640" y="5938920"/>
            <a:chExt cx="983880" cy="447480"/>
          </a:xfrm>
        </p:grpSpPr>
        <p:sp>
          <p:nvSpPr>
            <p:cNvPr id="1593" name=""/>
            <p:cNvSpPr/>
            <p:nvPr/>
          </p:nvSpPr>
          <p:spPr>
            <a:xfrm>
              <a:off x="4265640" y="5938920"/>
              <a:ext cx="983880" cy="223560"/>
            </a:xfrm>
            <a:custGeom>
              <a:avLst/>
              <a:gdLst>
                <a:gd name="textAreaLeft" fmla="*/ 172080 w 983880"/>
                <a:gd name="textAreaRight" fmla="*/ 713520 w 983880"/>
                <a:gd name="textAreaTop" fmla="*/ 29880 h 223560"/>
                <a:gd name="textAreaBottom" fmla="*/ 193680 h 22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bad1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363560" y="6081480"/>
              <a:ext cx="83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b5d"/>
                  </a:solidFill>
                  <a:latin typeface="Arial"/>
                </a:rPr>
                <a:t>Hand-o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5" name=""/>
          <p:cNvSpPr/>
          <p:nvPr/>
        </p:nvSpPr>
        <p:spPr>
          <a:xfrm>
            <a:off x="1595520" y="5762520"/>
            <a:ext cx="1260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580000" y="5762520"/>
            <a:ext cx="1258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2708640" y="3157560"/>
            <a:ext cx="32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Load Char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very critical situation – securing SG2 and future topics with budget &amp; HC cut im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85120" y="1085760"/>
            <a:ext cx="459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* for SG2 Release (optimized) and future top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551840" y="6540480"/>
            <a:ext cx="186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HC and consultants w/o Mana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833600" y="42703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6 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757280" y="306396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20 Cons./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‘ Cons.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412920" y="1353960"/>
            <a:ext cx="8399160" cy="515628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2679840" y="1359000"/>
            <a:ext cx="2832120" cy="917640"/>
          </a:xfrm>
          <a:prstGeom prst="rect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ture Topi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 operator feature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Rel. 2&amp;3 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1743480" y="3157560"/>
            <a:ext cx="58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&amp;D Skills Distribu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0720" y="1778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kill Distribution o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7" name=""/>
          <p:cNvGraphicFramePr/>
          <p:nvPr/>
        </p:nvGraphicFramePr>
        <p:xfrm>
          <a:off x="260280" y="1427040"/>
          <a:ext cx="866160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27040"/>
                    <a:ext cx="866160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840" y="4141800"/>
            <a:ext cx="8821800" cy="246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6680" y="1168560"/>
            <a:ext cx="8821800" cy="134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671560" y="2702880"/>
            <a:ext cx="4252680" cy="1189080"/>
          </a:xfrm>
          <a:prstGeom prst="flowChartExtra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0920" y="353880"/>
            <a:ext cx="59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use 65 Generation (Uwe Syd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720" y="1246320"/>
            <a:ext cx="86115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rrent weaknes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sig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orm factor/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ap locking 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eatu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ack of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s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pensiv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rateg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ctic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attempt to fit to operator program (e. g. VF life), ther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y below 200 €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ssive cost reductio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-package dedicated products to shrink in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troduce music by building MP3-player into headset plug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introducing UI into 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eping SK65 and S65 as flagship by upgrading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M 4.0; Space 2 go, MP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37800" y="3846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66800" y="248436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it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53040" y="25336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6800" y="28843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2225160" y="3157560"/>
            <a:ext cx="45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lanning Proce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/>
          <p:nvPr/>
        </p:nvSpPr>
        <p:spPr>
          <a:xfrm flipH="1">
            <a:off x="2543040" y="349416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430320" y="34941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40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ource transparence is gi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468440" y="2157480"/>
            <a:ext cx="5686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enario and Budget planning incl. HC in the PMC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MC delivers the load and budget overview (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s from M0/C0/P0 onwards in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V delivers the exact project overview &amp; critical path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68240" y="5429160"/>
            <a:ext cx="789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 approach used by other Siemens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460520" y="261612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1460520" y="372096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C covers the Budget and Scenario planning, Primavera the Projec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784080" y="3780000"/>
            <a:ext cx="6098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nning /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dra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395360" y="3780000"/>
            <a:ext cx="61128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freez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006640" y="3780000"/>
            <a:ext cx="122076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27400" y="3780000"/>
            <a:ext cx="8827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mples tes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110120" y="3780000"/>
            <a:ext cx="18302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inal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40360" y="3780000"/>
            <a:ext cx="21733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cceptance from platfomr / product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o predevelopment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84080" y="3538440"/>
            <a:ext cx="793764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2280" bIns="-62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325520" y="350352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6318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93824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464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5527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85912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1654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471840" y="3511440"/>
            <a:ext cx="698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7800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0863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39272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990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054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132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96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92596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2326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5390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468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1532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459560" y="35193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76592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069400" y="351648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96848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766880" y="310824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25440" y="310824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362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871800" y="311472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773680" y="310824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116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95152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48520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22596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024360" y="310824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910640" y="3114720"/>
            <a:ext cx="542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808992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8112240" y="3780000"/>
            <a:ext cx="6109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8256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84080" y="33703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822240" y="4035600"/>
            <a:ext cx="5594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Based on a draft version of the HW predevelopment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752560" y="5896080"/>
            <a:ext cx="6475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te: Component Projects can be started whenever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21140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72872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244600" y="4881600"/>
            <a:ext cx="103356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78160" y="4881600"/>
            <a:ext cx="74772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est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Ready for Integ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025880" y="4881600"/>
            <a:ext cx="1550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225960" y="4610160"/>
            <a:ext cx="58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005360" y="4614840"/>
            <a:ext cx="586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93824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335240" y="4267080"/>
            <a:ext cx="60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4637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049560" y="4203720"/>
            <a:ext cx="48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52720" y="4203720"/>
            <a:ext cx="37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0305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27672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346720" y="4262400"/>
            <a:ext cx="460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576760" y="450540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123920" y="4219560"/>
            <a:ext cx="372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211400" y="44719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803240" y="4203720"/>
            <a:ext cx="603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211400" y="4626000"/>
            <a:ext cx="436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2549520" y="5049720"/>
            <a:ext cx="4682880" cy="920520"/>
            <a:chOff x="2549520" y="5049720"/>
            <a:chExt cx="4682880" cy="920520"/>
          </a:xfrm>
        </p:grpSpPr>
        <p:sp>
          <p:nvSpPr>
            <p:cNvPr id="1687" name=""/>
            <p:cNvSpPr/>
            <p:nvPr/>
          </p:nvSpPr>
          <p:spPr>
            <a:xfrm>
              <a:off x="2636280" y="5727600"/>
              <a:ext cx="5158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Stud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153600" y="5727600"/>
              <a:ext cx="51624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70200" y="5727600"/>
              <a:ext cx="103356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Implementatio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704120" y="5727600"/>
              <a:ext cx="7480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Test 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Ready for Integ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452200" y="5727600"/>
              <a:ext cx="154980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093840" y="545220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6129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515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31320" y="546012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6385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008880" y="5057280"/>
              <a:ext cx="602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1237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474800" y="5049720"/>
              <a:ext cx="4892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278320" y="5049720"/>
              <a:ext cx="374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565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7023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773040" y="5108040"/>
              <a:ext cx="459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03440" y="535068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49520" y="506664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636280" y="531720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39800" y="5049720"/>
              <a:ext cx="602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36280" y="5470560"/>
              <a:ext cx="436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9" name=""/>
          <p:cNvSpPr/>
          <p:nvPr/>
        </p:nvSpPr>
        <p:spPr>
          <a:xfrm>
            <a:off x="1123920" y="2149560"/>
            <a:ext cx="203400" cy="1388880"/>
          </a:xfrm>
          <a:custGeom>
            <a:avLst/>
            <a:gdLst/>
            <a:ahLst/>
            <a:rect l="l" t="t" r="r" b="b"/>
            <a:pathLst>
              <a:path w="136" h="1043">
                <a:moveTo>
                  <a:pt x="136" y="0"/>
                </a:moveTo>
                <a:cubicBezTo>
                  <a:pt x="68" y="162"/>
                  <a:pt x="0" y="325"/>
                  <a:pt x="0" y="499"/>
                </a:cubicBezTo>
                <a:cubicBezTo>
                  <a:pt x="0" y="673"/>
                  <a:pt x="68" y="858"/>
                  <a:pt x="136" y="10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977760" y="2149560"/>
            <a:ext cx="349560" cy="2476440"/>
          </a:xfrm>
          <a:custGeom>
            <a:avLst/>
            <a:gdLst/>
            <a:ahLst/>
            <a:rect l="l" t="t" r="r" b="b"/>
            <a:pathLst>
              <a:path w="234" h="1860">
                <a:moveTo>
                  <a:pt x="234" y="0"/>
                </a:moveTo>
                <a:cubicBezTo>
                  <a:pt x="124" y="72"/>
                  <a:pt x="14" y="144"/>
                  <a:pt x="7" y="454"/>
                </a:cubicBezTo>
                <a:cubicBezTo>
                  <a:pt x="0" y="764"/>
                  <a:pt x="94" y="1312"/>
                  <a:pt x="189" y="18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10120" y="2149560"/>
            <a:ext cx="225360" cy="1388880"/>
          </a:xfrm>
          <a:custGeom>
            <a:avLst/>
            <a:gdLst/>
            <a:ahLst/>
            <a:rect l="l" t="t" r="r" b="b"/>
            <a:pathLst>
              <a:path w="151" h="1043">
                <a:moveTo>
                  <a:pt x="0" y="1043"/>
                </a:moveTo>
                <a:cubicBezTo>
                  <a:pt x="60" y="812"/>
                  <a:pt x="121" y="582"/>
                  <a:pt x="136" y="408"/>
                </a:cubicBezTo>
                <a:cubicBezTo>
                  <a:pt x="151" y="234"/>
                  <a:pt x="120" y="117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110120" y="2149560"/>
            <a:ext cx="428400" cy="2476440"/>
          </a:xfrm>
          <a:custGeom>
            <a:avLst/>
            <a:gdLst/>
            <a:ahLst/>
            <a:rect l="l" t="t" r="r" b="b"/>
            <a:pathLst>
              <a:path w="287" h="1860">
                <a:moveTo>
                  <a:pt x="0" y="1860"/>
                </a:moveTo>
                <a:cubicBezTo>
                  <a:pt x="128" y="1448"/>
                  <a:pt x="257" y="1036"/>
                  <a:pt x="272" y="726"/>
                </a:cubicBezTo>
                <a:cubicBezTo>
                  <a:pt x="287" y="416"/>
                  <a:pt x="188" y="208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467320" y="2149560"/>
            <a:ext cx="915840" cy="3322440"/>
          </a:xfrm>
          <a:custGeom>
            <a:avLst/>
            <a:gdLst/>
            <a:ahLst/>
            <a:rect l="l" t="t" r="r" b="b"/>
            <a:pathLst>
              <a:path w="612" h="2495">
                <a:moveTo>
                  <a:pt x="0" y="2495"/>
                </a:moveTo>
                <a:cubicBezTo>
                  <a:pt x="238" y="1863"/>
                  <a:pt x="476" y="1232"/>
                  <a:pt x="544" y="816"/>
                </a:cubicBezTo>
                <a:cubicBezTo>
                  <a:pt x="612" y="400"/>
                  <a:pt x="510" y="200"/>
                  <a:pt x="4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85880" y="2882880"/>
            <a:ext cx="60948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sic 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395360" y="2639880"/>
            <a:ext cx="6112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on paper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003400" y="2882880"/>
            <a:ext cx="24462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ystem board ru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49600" y="2639880"/>
            <a:ext cx="60984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 tested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059440" y="2874960"/>
            <a:ext cx="12906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ready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or product dev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350040" y="2631960"/>
            <a:ext cx="14238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compliant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fully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773840" y="2874960"/>
            <a:ext cx="94932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11200" y="2639880"/>
            <a:ext cx="272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BS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47720" y="2155680"/>
            <a:ext cx="79754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8760" bIns="-68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14240" y="21146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020600" y="211932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327320" y="21146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63368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94004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2478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5542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8605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16692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473280" y="2122560"/>
            <a:ext cx="702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7814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0878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3941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7005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0068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3150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6214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92776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2341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04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8486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1550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461360" y="213048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7677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807084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49440" y="171936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50960" y="19861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969920" y="199548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766880" y="171936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158840" y="171936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36368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906720" y="1585800"/>
            <a:ext cx="71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143240" y="1765440"/>
            <a:ext cx="576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42260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657760" y="19796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460840" y="171612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951520" y="1523880"/>
            <a:ext cx="6541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1)P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26436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84224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1122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4600" y="2270160"/>
            <a:ext cx="679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8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058760" y="2370240"/>
            <a:ext cx="676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66536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132440" y="22384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3308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012000" y="236052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8436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 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485200" y="172728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6080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83688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1172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954160" y="2452680"/>
            <a:ext cx="54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1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56724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2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04172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3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8008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45956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788000" y="1577880"/>
            <a:ext cx="882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w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0306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721400" y="23302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rot="10800000">
            <a:off x="5452920" y="148068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767480" y="1260360"/>
            <a:ext cx="18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10800000">
            <a:off x="1123920" y="155844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5880" y="1338120"/>
            <a:ext cx="19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rot="10800000">
            <a:off x="1145880" y="3061800"/>
            <a:ext cx="39348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62400" y="2843280"/>
            <a:ext cx="2550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e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rot="10800000">
            <a:off x="3398760" y="50277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839960" y="4443480"/>
            <a:ext cx="1473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36600" y="103500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ematic Platfor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7600" y="6165720"/>
            <a:ext cx="83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r NG SW project specification for planning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rot="10800000">
            <a:off x="1747800" y="4150800"/>
            <a:ext cx="393840" cy="1335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rot="10800000">
            <a:off x="147600" y="57135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09560" y="5637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9480" y="3538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st 65 Generation in FY04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560" y="1249200"/>
            <a:ext cx="8648280" cy="4972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cus on impact on this F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borate already developed technolog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, available from 01/05, so far no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mode, available from 01/05 (without Doja), so far only 5k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w sales channels by generating „stories“ around exi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g. rescue phone (M65 in 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xisting design variants to make deals with „local exclusivity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g. CX70 „Butterfly Design“ exclusive for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refreshes for deals with consortia or to increase attra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 new colors for SL65 for 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pard refr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9480" y="3538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st 65 Generation in FY04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40" y="1278000"/>
            <a:ext cx="7589160" cy="436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upgrade for specific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2go for SK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W for SK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e Doja implementation for I-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usic story for 65 generation products via MP3 head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MP3 headset, including Java based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ckage specific products, use already existing design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65 without c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daptations to S65 exclusively for 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rt Athena (Hera without cam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ckage Iris into old Apollo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7320" y="35388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9920" y="1162080"/>
          <a:ext cx="8843760" cy="5033880"/>
        </p:xfrm>
        <a:graphic>
          <a:graphicData uri="http://schemas.openxmlformats.org/drawingml/2006/table">
            <a:tbl>
              <a:tblPr/>
              <a:tblGrid>
                <a:gridCol w="1789200"/>
                <a:gridCol w="1481040"/>
                <a:gridCol w="1596960"/>
                <a:gridCol w="1422360"/>
                <a:gridCol w="1392120"/>
                <a:gridCol w="11620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te technologie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70; CX70 (M6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 and S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SW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 SW (without Doj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isting/orders for PaT de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 all operator that are launching P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hmone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ndoe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„Stories“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cue ph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potential for M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s approach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dle with Debit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qualific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m 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bau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existing designs for exclusive de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70 „Butterfly Design“ Rus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with customer started, feedback expected until 03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ndoe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69920" y="1362240"/>
          <a:ext cx="8843760" cy="4589280"/>
        </p:xfrm>
        <a:graphic>
          <a:graphicData uri="http://schemas.openxmlformats.org/drawingml/2006/table">
            <a:tbl>
              <a:tblPr/>
              <a:tblGrid>
                <a:gridCol w="1673280"/>
                <a:gridCol w="1596960"/>
                <a:gridCol w="1596960"/>
                <a:gridCol w="1422360"/>
                <a:gridCol w="1363680"/>
                <a:gridCol w="1190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upgr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ce2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. 50k units SK65 ups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estimation started at 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ing SW for SK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. 50k units SK65 upsi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SW requested by custo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feasibility not cl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e Do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, S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available 22.01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story for 65 Gen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story for 65 Gen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MP3 headset incl. Java based U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potential for bundles, specifically for S65 and SK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echn. feasibi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imeline f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housing 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ind solution f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Reques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84560" y="32544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9920" y="1362240"/>
          <a:ext cx="8843760" cy="4402080"/>
        </p:xfrm>
        <a:graphic>
          <a:graphicData uri="http://schemas.openxmlformats.org/drawingml/2006/table">
            <a:tbl>
              <a:tblPr/>
              <a:tblGrid>
                <a:gridCol w="1673280"/>
                <a:gridCol w="1596960"/>
                <a:gridCol w="1596960"/>
                <a:gridCol w="1422360"/>
                <a:gridCol w="1363680"/>
                <a:gridCol w="1190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ckaging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5 without 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‘ – 4‘ € Eb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 planned for 08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umg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500k units at 99€ for FY 04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esign is 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irst desig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shop with V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d on 29.11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ility of resources, specifically lay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person from lay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daptation to S65 for TM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 units upside pot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derings presented to TMO, feedback expected by 15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ch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rt Ath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1‘ units price line estimated at 70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vities started y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ofit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os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portfol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profit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ckage Iris into old Apollo desig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 uni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vities started y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timeline, effort resources and financial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27320" y="35388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52600" y="5958000"/>
            <a:ext cx="7976880" cy="6048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9480" y="35388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-Mode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131840"/>
          <a:ext cx="8628120" cy="4221360"/>
        </p:xfrm>
        <a:graphic>
          <a:graphicData uri="http://schemas.openxmlformats.org/drawingml/2006/table">
            <a:tbl>
              <a:tblPr/>
              <a:tblGrid>
                <a:gridCol w="1130400"/>
                <a:gridCol w="1968480"/>
                <a:gridCol w="1871640"/>
                <a:gridCol w="2352600"/>
                <a:gridCol w="1305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i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 opera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P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launch in D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the SW on first of Dec for the Approval in CW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ha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2.04 -&gt;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l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04.05-&gt; 10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launch CX70 but stock issues -&gt; will launch in Jan/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clea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Test  SW to get the Approval o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ha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2.04 -&gt;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m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planned in 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 download has to be deactiv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e CR and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m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2-&gt;22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interested but requires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of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timeline -&gt; DS SW on 22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e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yg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k over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s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deliver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eedback y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all region and custom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ch 05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delive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planned in 05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-mode service y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e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384560" y="5948280"/>
            <a:ext cx="65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e the upside potential from i-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8520" y="5396040"/>
            <a:ext cx="83829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s on hold, since Docomo is asking for Doja1.5 -&gt; AI: Kerstin Lohman, 03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Klebsch Wolfgang</cp:lastModifiedBy>
  <dcterms:modified xsi:type="dcterms:W3CDTF">2004-12-02T15:00:13Z</dcterms:modified>
  <cp:revision>978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8356067</vt:r8>
  </property>
  <property fmtid="{D5CDD505-2E9C-101B-9397-08002B2CF9AE}" pid="3" name="_AuthorEmail">
    <vt:lpwstr>katrin.braun@siemens.com</vt:lpwstr>
  </property>
  <property fmtid="{D5CDD505-2E9C-101B-9397-08002B2CF9AE}" pid="4" name="_AuthorEmailDisplayName">
    <vt:lpwstr>Braun Katrin ICM MP PBM PG85</vt:lpwstr>
  </property>
  <property fmtid="{D5CDD505-2E9C-101B-9397-08002B2CF9AE}" pid="5" name="_EmailSubject">
    <vt:lpwstr>Präsentation</vt:lpwstr>
  </property>
  <property fmtid="{D5CDD505-2E9C-101B-9397-08002B2CF9AE}" pid="6" name="_ReviewingToolsShownOnce">
    <vt:lpwstr/>
  </property>
</Properties>
</file>